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79560" y="657360"/>
            <a:ext cx="7184880" cy="93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44680" y="1308240"/>
            <a:ext cx="8054640" cy="13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44680" y="2758680"/>
            <a:ext cx="8054640" cy="13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79560" y="657360"/>
            <a:ext cx="7184880" cy="93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44680" y="1308240"/>
            <a:ext cx="3930480" cy="13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080" y="1308240"/>
            <a:ext cx="3930480" cy="13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44680" y="2758680"/>
            <a:ext cx="3930480" cy="13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080" y="2758680"/>
            <a:ext cx="3930480" cy="13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79560" y="657360"/>
            <a:ext cx="7184880" cy="93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44680" y="1308240"/>
            <a:ext cx="2593440" cy="13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68080" y="1308240"/>
            <a:ext cx="2593440" cy="13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91840" y="1308240"/>
            <a:ext cx="2593440" cy="13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44680" y="2758680"/>
            <a:ext cx="2593440" cy="13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68080" y="2758680"/>
            <a:ext cx="2593440" cy="13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91840" y="2758680"/>
            <a:ext cx="2593440" cy="13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F5A323-3285-4B74-AB9C-CE03984A3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79560" y="657360"/>
            <a:ext cx="7184880" cy="93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544680" y="1308240"/>
            <a:ext cx="8054640" cy="27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5A6BE2-A754-4697-9631-C99F05765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79560" y="657360"/>
            <a:ext cx="7184880" cy="93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44680" y="1308240"/>
            <a:ext cx="8054640" cy="27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D4E497-A306-46EE-8A59-A902D40A0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79560" y="657360"/>
            <a:ext cx="7184880" cy="93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44680" y="1308240"/>
            <a:ext cx="3930480" cy="27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2080" y="1308240"/>
            <a:ext cx="3930480" cy="27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865287-93A7-466D-A4AA-F88D2B930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79560" y="657360"/>
            <a:ext cx="7184880" cy="93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812214-1A09-4E03-9EBC-524E67AE4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979560" y="657360"/>
            <a:ext cx="7184880" cy="43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529A06-5897-4630-A8F7-02E9FC74E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79560" y="657360"/>
            <a:ext cx="7184880" cy="93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44680" y="1308240"/>
            <a:ext cx="3930480" cy="13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2080" y="1308240"/>
            <a:ext cx="3930480" cy="27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44680" y="2758680"/>
            <a:ext cx="3930480" cy="13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128602-BC5C-45CC-9760-AE3DA2E8A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79560" y="657360"/>
            <a:ext cx="7184880" cy="93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44680" y="1308240"/>
            <a:ext cx="8054640" cy="27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79560" y="657360"/>
            <a:ext cx="7184880" cy="93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44680" y="1308240"/>
            <a:ext cx="3930480" cy="27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2080" y="1308240"/>
            <a:ext cx="3930480" cy="13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2080" y="2758680"/>
            <a:ext cx="3930480" cy="13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4CFED5-9297-4B5F-B4B3-A186ED355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79560" y="657360"/>
            <a:ext cx="7184880" cy="93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44680" y="1308240"/>
            <a:ext cx="3930480" cy="13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2080" y="1308240"/>
            <a:ext cx="3930480" cy="13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44680" y="2758680"/>
            <a:ext cx="8054640" cy="13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171537-8988-455C-BA87-AF6441E03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79560" y="657360"/>
            <a:ext cx="7184880" cy="93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44680" y="1308240"/>
            <a:ext cx="8054640" cy="13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44680" y="2758680"/>
            <a:ext cx="8054640" cy="13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18E6AB-46D3-492F-8584-E9EE28F3A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79560" y="657360"/>
            <a:ext cx="7184880" cy="93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44680" y="1308240"/>
            <a:ext cx="3930480" cy="13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2080" y="1308240"/>
            <a:ext cx="3930480" cy="13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44680" y="2758680"/>
            <a:ext cx="3930480" cy="13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2080" y="2758680"/>
            <a:ext cx="3930480" cy="13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64491B-9629-4D91-8834-DDDF2CF7E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79560" y="657360"/>
            <a:ext cx="7184880" cy="93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44680" y="1308240"/>
            <a:ext cx="2593440" cy="13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68080" y="1308240"/>
            <a:ext cx="2593440" cy="13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1840" y="1308240"/>
            <a:ext cx="2593440" cy="13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44680" y="2758680"/>
            <a:ext cx="2593440" cy="13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68080" y="2758680"/>
            <a:ext cx="2593440" cy="13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1840" y="2758680"/>
            <a:ext cx="2593440" cy="13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8C52CF-C320-4204-B604-6112C7F21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79560" y="657360"/>
            <a:ext cx="7184880" cy="93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544680" y="1308240"/>
            <a:ext cx="8054640" cy="27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79560" y="657360"/>
            <a:ext cx="7184880" cy="93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44680" y="1308240"/>
            <a:ext cx="8054640" cy="27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79560" y="657360"/>
            <a:ext cx="7184880" cy="93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44680" y="1308240"/>
            <a:ext cx="3930480" cy="27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2080" y="1308240"/>
            <a:ext cx="3930480" cy="27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79560" y="657360"/>
            <a:ext cx="7184880" cy="93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79560" y="657360"/>
            <a:ext cx="7184880" cy="93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44680" y="1308240"/>
            <a:ext cx="8054640" cy="27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979560" y="657360"/>
            <a:ext cx="7184880" cy="43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79560" y="657360"/>
            <a:ext cx="7184880" cy="93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44680" y="1308240"/>
            <a:ext cx="3930480" cy="13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2080" y="1308240"/>
            <a:ext cx="3930480" cy="27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44680" y="2758680"/>
            <a:ext cx="3930480" cy="13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79560" y="657360"/>
            <a:ext cx="7184880" cy="93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44680" y="1308240"/>
            <a:ext cx="3930480" cy="27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2080" y="1308240"/>
            <a:ext cx="3930480" cy="13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2080" y="2758680"/>
            <a:ext cx="3930480" cy="13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79560" y="657360"/>
            <a:ext cx="7184880" cy="93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44680" y="1308240"/>
            <a:ext cx="3930480" cy="13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2080" y="1308240"/>
            <a:ext cx="3930480" cy="13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44680" y="2758680"/>
            <a:ext cx="8054640" cy="13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79560" y="657360"/>
            <a:ext cx="7184880" cy="93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44680" y="1308240"/>
            <a:ext cx="8054640" cy="13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44680" y="2758680"/>
            <a:ext cx="8054640" cy="13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79560" y="657360"/>
            <a:ext cx="7184880" cy="93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44680" y="1308240"/>
            <a:ext cx="3930480" cy="13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2080" y="1308240"/>
            <a:ext cx="3930480" cy="13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44680" y="2758680"/>
            <a:ext cx="3930480" cy="13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2080" y="2758680"/>
            <a:ext cx="3930480" cy="13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79560" y="657360"/>
            <a:ext cx="7184880" cy="93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44680" y="1308240"/>
            <a:ext cx="2593440" cy="13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68080" y="1308240"/>
            <a:ext cx="2593440" cy="13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991840" y="1308240"/>
            <a:ext cx="2593440" cy="13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544680" y="2758680"/>
            <a:ext cx="2593440" cy="13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68080" y="2758680"/>
            <a:ext cx="2593440" cy="13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5991840" y="2758680"/>
            <a:ext cx="2593440" cy="13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B01CF65-E6EB-453C-8E94-C63BAF728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79560" y="657360"/>
            <a:ext cx="7184880" cy="93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544680" y="1308240"/>
            <a:ext cx="8054640" cy="27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8850EDB-0EB5-4049-AD32-E66809FB3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79560" y="657360"/>
            <a:ext cx="7184880" cy="93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44680" y="1308240"/>
            <a:ext cx="8054640" cy="27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161DDEB-B905-4978-906F-887410B88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79560" y="657360"/>
            <a:ext cx="7184880" cy="93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44680" y="1308240"/>
            <a:ext cx="3930480" cy="27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080" y="1308240"/>
            <a:ext cx="3930480" cy="27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79560" y="657360"/>
            <a:ext cx="7184880" cy="93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44680" y="1308240"/>
            <a:ext cx="3930480" cy="27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2080" y="1308240"/>
            <a:ext cx="3930480" cy="27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A56E521-DBBB-49D4-9487-CF05766C2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79560" y="657360"/>
            <a:ext cx="7184880" cy="93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AD48660-67FA-4446-B2D2-3601BC5EE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79560" y="657360"/>
            <a:ext cx="7184880" cy="43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55386CD-5E23-4036-871E-130384160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79560" y="657360"/>
            <a:ext cx="7184880" cy="93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44680" y="1308240"/>
            <a:ext cx="3930480" cy="13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2080" y="1308240"/>
            <a:ext cx="3930480" cy="27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44680" y="2758680"/>
            <a:ext cx="3930480" cy="13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79CEC52-0EDC-4650-8097-C5632A68F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79560" y="657360"/>
            <a:ext cx="7184880" cy="93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44680" y="1308240"/>
            <a:ext cx="3930480" cy="27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2080" y="1308240"/>
            <a:ext cx="3930480" cy="13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72080" y="2758680"/>
            <a:ext cx="3930480" cy="13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6B77641-93CB-474C-914D-AE1AEBEE9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79560" y="657360"/>
            <a:ext cx="7184880" cy="93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44680" y="1308240"/>
            <a:ext cx="3930480" cy="13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2080" y="1308240"/>
            <a:ext cx="3930480" cy="13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44680" y="2758680"/>
            <a:ext cx="8054640" cy="13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28C7FC2-736F-4906-9897-28C11ADD2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79560" y="657360"/>
            <a:ext cx="7184880" cy="93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44680" y="1308240"/>
            <a:ext cx="8054640" cy="13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44680" y="2758680"/>
            <a:ext cx="8054640" cy="13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A625976-BF66-4B90-991A-92D9819A0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79560" y="657360"/>
            <a:ext cx="7184880" cy="93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44680" y="1308240"/>
            <a:ext cx="3930480" cy="13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2080" y="1308240"/>
            <a:ext cx="3930480" cy="13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544680" y="2758680"/>
            <a:ext cx="3930480" cy="13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72080" y="2758680"/>
            <a:ext cx="3930480" cy="13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E3B8B2D-96CC-490F-8ABD-0B6BBCDB1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79560" y="657360"/>
            <a:ext cx="7184880" cy="93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44680" y="1308240"/>
            <a:ext cx="2593440" cy="13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268080" y="1308240"/>
            <a:ext cx="2593440" cy="13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5991840" y="1308240"/>
            <a:ext cx="2593440" cy="13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544680" y="2758680"/>
            <a:ext cx="2593440" cy="13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268080" y="2758680"/>
            <a:ext cx="2593440" cy="13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5991840" y="2758680"/>
            <a:ext cx="2593440" cy="13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F080FED-891C-4A6F-9F2C-154B25501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288FF23-9EBA-4F0E-8806-58CE84741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79560" y="657360"/>
            <a:ext cx="7184880" cy="93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79560" y="657360"/>
            <a:ext cx="7184880" cy="93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544680" y="1308240"/>
            <a:ext cx="8054640" cy="27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641CC75-B8DE-49AE-AB3D-AEED96742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79560" y="657360"/>
            <a:ext cx="7184880" cy="93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44680" y="1308240"/>
            <a:ext cx="8054640" cy="27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7FEC7A1-CECA-46B7-B949-6C61F10B1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79560" y="657360"/>
            <a:ext cx="7184880" cy="93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44680" y="1308240"/>
            <a:ext cx="3930480" cy="27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2080" y="1308240"/>
            <a:ext cx="3930480" cy="27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1CB8061-A238-48E2-8ECC-03DD2CA6C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79560" y="657360"/>
            <a:ext cx="7184880" cy="93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3EB416F-BE0B-4EE7-92D3-5FCEE1F1A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979560" y="657360"/>
            <a:ext cx="7184880" cy="43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732B957-4492-4945-9CB1-F8E27123C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79560" y="657360"/>
            <a:ext cx="7184880" cy="93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44680" y="1308240"/>
            <a:ext cx="3930480" cy="13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2080" y="1308240"/>
            <a:ext cx="3930480" cy="27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544680" y="2758680"/>
            <a:ext cx="3930480" cy="13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81D4A6C-D735-4473-A99C-529436935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79560" y="657360"/>
            <a:ext cx="7184880" cy="93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44680" y="1308240"/>
            <a:ext cx="3930480" cy="27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2080" y="1308240"/>
            <a:ext cx="3930480" cy="13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2080" y="2758680"/>
            <a:ext cx="3930480" cy="13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06F4E4E-8EFE-4E63-9A34-FD30B0CD7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79560" y="657360"/>
            <a:ext cx="7184880" cy="93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44680" y="1308240"/>
            <a:ext cx="3930480" cy="13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2080" y="1308240"/>
            <a:ext cx="3930480" cy="13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44680" y="2758680"/>
            <a:ext cx="8054640" cy="13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2B26136-FB1E-4F69-8F7A-E0D60EBF6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79560" y="657360"/>
            <a:ext cx="7184880" cy="93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44680" y="1308240"/>
            <a:ext cx="8054640" cy="13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44680" y="2758680"/>
            <a:ext cx="8054640" cy="13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B94322D-E7DE-426A-ADC8-D11623FA9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79560" y="657360"/>
            <a:ext cx="7184880" cy="93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44680" y="1308240"/>
            <a:ext cx="3930480" cy="13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2080" y="1308240"/>
            <a:ext cx="3930480" cy="13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544680" y="2758680"/>
            <a:ext cx="3930480" cy="13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2080" y="2758680"/>
            <a:ext cx="3930480" cy="13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7885F05-F188-475D-8779-F2BFD7D24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79560" y="657360"/>
            <a:ext cx="7184880" cy="43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79560" y="657360"/>
            <a:ext cx="7184880" cy="93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44680" y="1308240"/>
            <a:ext cx="2593440" cy="13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68080" y="1308240"/>
            <a:ext cx="2593440" cy="13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991840" y="1308240"/>
            <a:ext cx="2593440" cy="13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544680" y="2758680"/>
            <a:ext cx="2593440" cy="13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68080" y="2758680"/>
            <a:ext cx="2593440" cy="13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991840" y="2758680"/>
            <a:ext cx="2593440" cy="13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14EF273-7B7E-472B-B3CA-08CB02BA8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90B3AC5-11C3-481F-BDB0-0BB18A4BA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79560" y="657360"/>
            <a:ext cx="7184880" cy="93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544680" y="1308240"/>
            <a:ext cx="8054640" cy="27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35B8139-3955-4127-9B3A-7C769912C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79560" y="657360"/>
            <a:ext cx="7184880" cy="93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44680" y="1308240"/>
            <a:ext cx="8054640" cy="27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3D0BE1B-46E5-4237-9406-2290B646F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79560" y="657360"/>
            <a:ext cx="7184880" cy="93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44680" y="1308240"/>
            <a:ext cx="3930480" cy="27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2080" y="1308240"/>
            <a:ext cx="3930480" cy="27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B2C7F40-86F5-4D04-8384-448211546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79560" y="657360"/>
            <a:ext cx="7184880" cy="93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1FF812E-21ED-4AE9-9746-416A1255B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979560" y="657360"/>
            <a:ext cx="7184880" cy="43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84E1832-82FE-4105-91A6-91782889C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79560" y="657360"/>
            <a:ext cx="7184880" cy="93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544680" y="1308240"/>
            <a:ext cx="3930480" cy="13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2080" y="1308240"/>
            <a:ext cx="3930480" cy="27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44680" y="2758680"/>
            <a:ext cx="3930480" cy="13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C67E2E0-E44E-44CB-B841-A7D87DD6C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79560" y="657360"/>
            <a:ext cx="7184880" cy="93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44680" y="1308240"/>
            <a:ext cx="3930480" cy="27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2080" y="1308240"/>
            <a:ext cx="3930480" cy="13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672080" y="2758680"/>
            <a:ext cx="3930480" cy="13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5F61855-573C-4A32-8E73-20EEF44F4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79560" y="657360"/>
            <a:ext cx="7184880" cy="93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44680" y="1308240"/>
            <a:ext cx="3930480" cy="13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2080" y="1308240"/>
            <a:ext cx="3930480" cy="13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544680" y="2758680"/>
            <a:ext cx="8054640" cy="13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475A679-A31B-4298-8C6C-070CA164D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79560" y="657360"/>
            <a:ext cx="7184880" cy="93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44680" y="1308240"/>
            <a:ext cx="3930480" cy="13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080" y="1308240"/>
            <a:ext cx="3930480" cy="27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44680" y="2758680"/>
            <a:ext cx="3930480" cy="13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79560" y="657360"/>
            <a:ext cx="7184880" cy="93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44680" y="1308240"/>
            <a:ext cx="8054640" cy="13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544680" y="2758680"/>
            <a:ext cx="8054640" cy="13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26ECACC-173A-41F0-AE13-58A375DE3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79560" y="657360"/>
            <a:ext cx="7184880" cy="93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44680" y="1308240"/>
            <a:ext cx="3930480" cy="13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2080" y="1308240"/>
            <a:ext cx="3930480" cy="13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44680" y="2758680"/>
            <a:ext cx="3930480" cy="13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672080" y="2758680"/>
            <a:ext cx="3930480" cy="13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308FC95-A146-42D7-9B09-76738D162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79560" y="657360"/>
            <a:ext cx="7184880" cy="93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44680" y="1308240"/>
            <a:ext cx="2593440" cy="13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268080" y="1308240"/>
            <a:ext cx="2593440" cy="13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991840" y="1308240"/>
            <a:ext cx="2593440" cy="13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544680" y="2758680"/>
            <a:ext cx="2593440" cy="13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3268080" y="2758680"/>
            <a:ext cx="2593440" cy="13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5991840" y="2758680"/>
            <a:ext cx="2593440" cy="13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3217B3E-17BB-43E4-850D-723D1CA58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79560" y="657360"/>
            <a:ext cx="7184880" cy="93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44680" y="1308240"/>
            <a:ext cx="3930480" cy="27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080" y="1308240"/>
            <a:ext cx="3930480" cy="13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080" y="2758680"/>
            <a:ext cx="3930480" cy="13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79560" y="657360"/>
            <a:ext cx="7184880" cy="93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44680" y="1308240"/>
            <a:ext cx="3930480" cy="13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080" y="1308240"/>
            <a:ext cx="3930480" cy="13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44680" y="2758680"/>
            <a:ext cx="8054640" cy="13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C:\Sammy CCB\COLOMBO BRITANICO\plantilla power point\plantilla-background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bk object 17"/>
          <p:cNvSpPr/>
          <p:nvPr/>
        </p:nvSpPr>
        <p:spPr>
          <a:xfrm>
            <a:off x="5929200" y="6165720"/>
            <a:ext cx="3214800" cy="6210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bk object 18"/>
          <p:cNvSpPr/>
          <p:nvPr/>
        </p:nvSpPr>
        <p:spPr>
          <a:xfrm>
            <a:off x="1600200" y="138240"/>
            <a:ext cx="1928880" cy="79524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79560" y="657360"/>
            <a:ext cx="7184880" cy="93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544680" y="1308240"/>
            <a:ext cx="8054640" cy="27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108240" y="6378120"/>
            <a:ext cx="2927520" cy="3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C:\Sammy CCB\COLOMBO BRITANICO\plantilla power point\plantilla-background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bk object 17"/>
          <p:cNvSpPr/>
          <p:nvPr/>
        </p:nvSpPr>
        <p:spPr>
          <a:xfrm>
            <a:off x="5929200" y="6165720"/>
            <a:ext cx="3214800" cy="6210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bk object 18"/>
          <p:cNvSpPr/>
          <p:nvPr/>
        </p:nvSpPr>
        <p:spPr>
          <a:xfrm>
            <a:off x="1600200" y="138240"/>
            <a:ext cx="1928880" cy="79524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79560" y="657360"/>
            <a:ext cx="7184880" cy="93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544680" y="1308240"/>
            <a:ext cx="8054640" cy="27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2"/>
          </p:nvPr>
        </p:nvSpPr>
        <p:spPr>
          <a:xfrm>
            <a:off x="3108240" y="6378120"/>
            <a:ext cx="2927520" cy="3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3"/>
          </p:nvPr>
        </p:nvSpPr>
        <p:spPr>
          <a:xfrm>
            <a:off x="536400" y="6407280"/>
            <a:ext cx="533520" cy="13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8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800" spc="-1" strike="noStrike">
                <a:solidFill>
                  <a:srgbClr val="ffffff"/>
                </a:solidFill>
                <a:latin typeface="Times New Roman"/>
                <a:ea typeface="Arial"/>
              </a:rPr>
              <a:t>13/12/20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4"/>
          </p:nvPr>
        </p:nvSpPr>
        <p:spPr>
          <a:xfrm>
            <a:off x="5689080" y="6407280"/>
            <a:ext cx="163800" cy="13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8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8AB46-373D-4B02-AE2B-2D267A3ABE48}" type="slidenum">
              <a:rPr b="0" lang="es-CO" sz="8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C:\Sammy CCB\COLOMBO BRITANICO\plantilla power point\plantilla-background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bk object 17"/>
          <p:cNvSpPr/>
          <p:nvPr/>
        </p:nvSpPr>
        <p:spPr>
          <a:xfrm>
            <a:off x="5929200" y="6165720"/>
            <a:ext cx="3214800" cy="6210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bk object 18"/>
          <p:cNvSpPr/>
          <p:nvPr/>
        </p:nvSpPr>
        <p:spPr>
          <a:xfrm>
            <a:off x="1600200" y="138240"/>
            <a:ext cx="1928880" cy="79524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79560" y="657360"/>
            <a:ext cx="7184880" cy="93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544680" y="1308240"/>
            <a:ext cx="8054640" cy="27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C:\Sammy CCB\COLOMBO BRITANICO\plantilla power point\plantilla-background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bk object 17"/>
          <p:cNvSpPr/>
          <p:nvPr/>
        </p:nvSpPr>
        <p:spPr>
          <a:xfrm>
            <a:off x="5929200" y="6165720"/>
            <a:ext cx="3214800" cy="6210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bk object 18"/>
          <p:cNvSpPr/>
          <p:nvPr/>
        </p:nvSpPr>
        <p:spPr>
          <a:xfrm>
            <a:off x="1600200" y="138240"/>
            <a:ext cx="1928880" cy="79524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79560" y="657360"/>
            <a:ext cx="7184880" cy="93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544680" y="1308240"/>
            <a:ext cx="8054640" cy="27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ftr" idx="5"/>
          </p:nvPr>
        </p:nvSpPr>
        <p:spPr>
          <a:xfrm>
            <a:off x="3108240" y="6378120"/>
            <a:ext cx="2927520" cy="3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dt" idx="6"/>
          </p:nvPr>
        </p:nvSpPr>
        <p:spPr>
          <a:xfrm>
            <a:off x="536400" y="6407280"/>
            <a:ext cx="533520" cy="13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8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800" spc="-1" strike="noStrike">
                <a:solidFill>
                  <a:srgbClr val="ffffff"/>
                </a:solidFill>
                <a:latin typeface="Times New Roman"/>
                <a:ea typeface="Arial"/>
              </a:rPr>
              <a:t>13/12/20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7"/>
          </p:nvPr>
        </p:nvSpPr>
        <p:spPr>
          <a:xfrm>
            <a:off x="5689080" y="6407280"/>
            <a:ext cx="163800" cy="13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8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54CB6-2A4A-446B-8FA9-7FE92A066223}" type="slidenum">
              <a:rPr b="0" lang="es-CO" sz="8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C:\Sammy CCB\COLOMBO BRITANICO\plantilla power point\plantilla-background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bk object 17"/>
          <p:cNvSpPr/>
          <p:nvPr/>
        </p:nvSpPr>
        <p:spPr>
          <a:xfrm>
            <a:off x="5929200" y="6165720"/>
            <a:ext cx="3214800" cy="6210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bk object 18"/>
          <p:cNvSpPr/>
          <p:nvPr/>
        </p:nvSpPr>
        <p:spPr>
          <a:xfrm>
            <a:off x="1600200" y="138240"/>
            <a:ext cx="1928880" cy="79524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79560" y="657360"/>
            <a:ext cx="7184880" cy="93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544680" y="1308240"/>
            <a:ext cx="8054640" cy="27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ftr" idx="8"/>
          </p:nvPr>
        </p:nvSpPr>
        <p:spPr>
          <a:xfrm>
            <a:off x="3108240" y="6378120"/>
            <a:ext cx="2927520" cy="3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dt" idx="9"/>
          </p:nvPr>
        </p:nvSpPr>
        <p:spPr>
          <a:xfrm>
            <a:off x="536400" y="6407280"/>
            <a:ext cx="533520" cy="13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8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800" spc="-1" strike="noStrike">
                <a:solidFill>
                  <a:srgbClr val="ffffff"/>
                </a:solidFill>
                <a:latin typeface="Times New Roman"/>
                <a:ea typeface="Arial"/>
              </a:rPr>
              <a:t>13/12/20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0"/>
          </p:nvPr>
        </p:nvSpPr>
        <p:spPr>
          <a:xfrm>
            <a:off x="5689080" y="6407280"/>
            <a:ext cx="163800" cy="13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8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A020D-E02F-41FB-ABAE-00258CD44234}" type="slidenum">
              <a:rPr b="0" lang="es-CO" sz="8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2" descr="C:\Sammy CCB\COLOMBO BRITANICO\plantilla power point\plantilla-background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6" name="bk object 17"/>
          <p:cNvSpPr/>
          <p:nvPr/>
        </p:nvSpPr>
        <p:spPr>
          <a:xfrm>
            <a:off x="5929200" y="6165720"/>
            <a:ext cx="3214800" cy="6210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bk object 18"/>
          <p:cNvSpPr/>
          <p:nvPr/>
        </p:nvSpPr>
        <p:spPr>
          <a:xfrm>
            <a:off x="1600200" y="138240"/>
            <a:ext cx="1928880" cy="79524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79560" y="657360"/>
            <a:ext cx="7184880" cy="93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544680" y="1308240"/>
            <a:ext cx="8054640" cy="27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ftr" idx="11"/>
          </p:nvPr>
        </p:nvSpPr>
        <p:spPr>
          <a:xfrm>
            <a:off x="3108240" y="6378120"/>
            <a:ext cx="2927520" cy="3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dt" idx="12"/>
          </p:nvPr>
        </p:nvSpPr>
        <p:spPr>
          <a:xfrm>
            <a:off x="536400" y="6407280"/>
            <a:ext cx="533520" cy="13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8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800" spc="-1" strike="noStrike">
                <a:solidFill>
                  <a:srgbClr val="ffffff"/>
                </a:solidFill>
                <a:latin typeface="Times New Roman"/>
                <a:ea typeface="Arial"/>
              </a:rPr>
              <a:t>13/12/20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 type="sldNum" idx="13"/>
          </p:nvPr>
        </p:nvSpPr>
        <p:spPr>
          <a:xfrm>
            <a:off x="5689080" y="6407280"/>
            <a:ext cx="163800" cy="13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8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1344C-C565-415D-AC55-CA7CDB34EED8}" type="slidenum">
              <a:rPr b="0" lang="es-CO" sz="8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0.pn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object 2"/>
          <p:cNvSpPr/>
          <p:nvPr/>
        </p:nvSpPr>
        <p:spPr>
          <a:xfrm>
            <a:off x="2862360" y="0"/>
            <a:ext cx="628164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object 3"/>
          <p:cNvSpPr/>
          <p:nvPr/>
        </p:nvSpPr>
        <p:spPr>
          <a:xfrm>
            <a:off x="5786280" y="5996160"/>
            <a:ext cx="3357720" cy="64764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bject 4"/>
          <p:cNvSpPr/>
          <p:nvPr/>
        </p:nvSpPr>
        <p:spPr>
          <a:xfrm>
            <a:off x="4660920" y="831960"/>
            <a:ext cx="3808440" cy="15714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bject 5"/>
          <p:cNvSpPr/>
          <p:nvPr/>
        </p:nvSpPr>
        <p:spPr>
          <a:xfrm>
            <a:off x="898560" y="2874960"/>
            <a:ext cx="2389320" cy="90180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bject 6"/>
          <p:cNvSpPr/>
          <p:nvPr/>
        </p:nvSpPr>
        <p:spPr>
          <a:xfrm>
            <a:off x="2751120" y="2874960"/>
            <a:ext cx="5718240" cy="901800"/>
          </a:xfrm>
          <a:prstGeom prst="rect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object 7"/>
          <p:cNvSpPr/>
          <p:nvPr/>
        </p:nvSpPr>
        <p:spPr>
          <a:xfrm>
            <a:off x="1135080" y="3362400"/>
            <a:ext cx="5383080" cy="901800"/>
          </a:xfrm>
          <a:prstGeom prst="rect">
            <a:avLst/>
          </a:prstGeom>
          <a:blipFill rotWithShape="0">
            <a:blip r:embed="rId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object 8"/>
          <p:cNvSpPr/>
          <p:nvPr/>
        </p:nvSpPr>
        <p:spPr>
          <a:xfrm>
            <a:off x="5981760" y="3362400"/>
            <a:ext cx="649080" cy="901800"/>
          </a:xfrm>
          <a:prstGeom prst="rect">
            <a:avLst/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object 9"/>
          <p:cNvSpPr/>
          <p:nvPr/>
        </p:nvSpPr>
        <p:spPr>
          <a:xfrm>
            <a:off x="6094440" y="3362400"/>
            <a:ext cx="2025720" cy="901800"/>
          </a:xfrm>
          <a:prstGeom prst="rect">
            <a:avLst/>
          </a:prstGeom>
          <a:blipFill rotWithShape="0">
            <a:blip r:embed="rId8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object 10"/>
          <p:cNvSpPr/>
          <p:nvPr/>
        </p:nvSpPr>
        <p:spPr>
          <a:xfrm>
            <a:off x="7583400" y="3362400"/>
            <a:ext cx="649440" cy="901800"/>
          </a:xfrm>
          <a:prstGeom prst="rect">
            <a:avLst/>
          </a:prstGeom>
          <a:blipFill rotWithShape="0">
            <a:blip r:embed="rId9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object 11"/>
          <p:cNvSpPr/>
          <p:nvPr/>
        </p:nvSpPr>
        <p:spPr>
          <a:xfrm>
            <a:off x="1139760" y="2994120"/>
            <a:ext cx="6945480" cy="4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ts val="381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200" spc="-1" strike="noStrike">
                <a:solidFill>
                  <a:srgbClr val="001f5f"/>
                </a:solidFill>
                <a:latin typeface="Arial"/>
                <a:ea typeface="Arial"/>
              </a:rPr>
              <a:t>Objetivos, alcances y aspectos má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object 12"/>
          <p:cNvSpPr/>
          <p:nvPr/>
        </p:nvSpPr>
        <p:spPr>
          <a:xfrm>
            <a:off x="1376280" y="3483000"/>
            <a:ext cx="6475320" cy="4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ts val="3813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200" spc="-1" strike="noStrike">
                <a:solidFill>
                  <a:srgbClr val="001f5f"/>
                </a:solidFill>
                <a:latin typeface="Arial"/>
                <a:ea typeface="Arial"/>
              </a:rPr>
              <a:t>relevantes de la ley 1581</a:t>
            </a:r>
            <a:r>
              <a:rPr b="1" lang="es-CO" sz="3200" spc="-1" strike="noStrike">
                <a:solidFill>
                  <a:srgbClr val="001f5f"/>
                </a:solidFill>
                <a:latin typeface="Arial"/>
                <a:ea typeface="Arial"/>
              </a:rPr>
              <a:t>	</a:t>
            </a:r>
            <a:r>
              <a:rPr b="1" lang="es-CO" sz="3200" spc="-1" strike="noStrike">
                <a:solidFill>
                  <a:srgbClr val="001f5f"/>
                </a:solidFill>
                <a:latin typeface="Arial"/>
                <a:ea typeface="Arial"/>
              </a:rPr>
              <a:t>de 20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object 13"/>
          <p:cNvSpPr/>
          <p:nvPr/>
        </p:nvSpPr>
        <p:spPr>
          <a:xfrm>
            <a:off x="5657760" y="4600440"/>
            <a:ext cx="293868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600" spc="-1" strike="noStrike">
                <a:solidFill>
                  <a:srgbClr val="002b82"/>
                </a:solidFill>
                <a:latin typeface="Arial"/>
                <a:ea typeface="Arial"/>
              </a:rPr>
              <a:t>Carlos Enrique Salazar Muñoz </a:t>
            </a:r>
            <a:r>
              <a:rPr b="0" lang="es-CO" sz="1600" spc="-1" strike="noStrike">
                <a:solidFill>
                  <a:srgbClr val="002b82"/>
                </a:solidFill>
                <a:latin typeface="Arial"/>
                <a:ea typeface="Arial"/>
              </a:rPr>
              <a:t>Director de Investigación para la Protección de Datos Person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object 14"/>
          <p:cNvSpPr/>
          <p:nvPr/>
        </p:nvSpPr>
        <p:spPr>
          <a:xfrm>
            <a:off x="2841480" y="5942160"/>
            <a:ext cx="2914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2b82"/>
                </a:solidFill>
                <a:latin typeface="Arial"/>
                <a:ea typeface="Arial"/>
              </a:rPr>
              <a:t>Bogotá D.C., diciembre de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Picture 14" descr=""/>
          <p:cNvPicPr/>
          <p:nvPr/>
        </p:nvPicPr>
        <p:blipFill>
          <a:blip r:embed="rId10"/>
          <a:stretch/>
        </p:blipFill>
        <p:spPr>
          <a:xfrm>
            <a:off x="898560" y="1066680"/>
            <a:ext cx="277344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914400" y="1044360"/>
            <a:ext cx="7184880" cy="649080"/>
          </a:xfrm>
          <a:prstGeom prst="rect">
            <a:avLst/>
          </a:prstGeom>
          <a:noFill/>
          <a:ln w="0">
            <a:noFill/>
          </a:ln>
        </p:spPr>
        <p:txBody>
          <a:bodyPr lIns="0" rIns="0" tIns="216000" bIns="0" anchor="t">
            <a:noAutofit/>
          </a:bodyPr>
          <a:p>
            <a:pPr marL="1846440" indent="0" algn="ctr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800" spc="-1" strike="noStrike">
                <a:solidFill>
                  <a:srgbClr val="002b82"/>
                </a:solidFill>
                <a:latin typeface="Arial"/>
                <a:ea typeface="Arial"/>
              </a:rPr>
              <a:t>Categorías especiales de datos</a:t>
            </a:r>
            <a:endParaRPr b="0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00" name="object 8"/>
          <p:cNvSpPr/>
          <p:nvPr/>
        </p:nvSpPr>
        <p:spPr>
          <a:xfrm>
            <a:off x="536400" y="6407280"/>
            <a:ext cx="53352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13/12/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object 9"/>
          <p:cNvSpPr/>
          <p:nvPr/>
        </p:nvSpPr>
        <p:spPr>
          <a:xfrm>
            <a:off x="5689440" y="6407280"/>
            <a:ext cx="163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55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24103-CA8F-4C72-85A1-E4C7C96B7016}" type="slidenum">
              <a:rPr b="0" lang="es-CO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object 7"/>
          <p:cNvSpPr/>
          <p:nvPr/>
        </p:nvSpPr>
        <p:spPr>
          <a:xfrm>
            <a:off x="1752480" y="2203560"/>
            <a:ext cx="7191360" cy="28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O" sz="2000" spc="-1" strike="noStrike">
                <a:solidFill>
                  <a:srgbClr val="002b82"/>
                </a:solidFill>
                <a:latin typeface="Arial"/>
                <a:ea typeface="Arial"/>
              </a:rPr>
              <a:t>Datos sensibles: </a:t>
            </a:r>
            <a:r>
              <a:rPr b="0" i="1" lang="es-CO" sz="2000" spc="-1" strike="noStrike">
                <a:solidFill>
                  <a:srgbClr val="002b82"/>
                </a:solidFill>
                <a:latin typeface="Arial"/>
                <a:ea typeface="Arial"/>
              </a:rPr>
              <a:t>Aquellos que afectan la intimidad de las personas o cuyo uso indebido puede generar discriminación (Origen racial    o    étnico,    orientación    política,    convicciones filosóficas   o   religiosas,   pertenencia   a   sindicatos   u organizaciones  sociales  o  de  derechos  humanos,  datos de salud, vida sexual y biométrico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600">
              <a:lnSpc>
                <a:spcPts val="848"/>
              </a:lnSpc>
              <a:spcBef>
                <a:spcPts val="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600"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600"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6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O" sz="2000" spc="-1" strike="noStrike">
                <a:solidFill>
                  <a:srgbClr val="002b82"/>
                </a:solidFill>
                <a:latin typeface="Arial"/>
                <a:ea typeface="Arial"/>
              </a:rPr>
              <a:t>Se  prohíbe  el  tratamiento  de  datos  sensibles  salvo  las excepciones del artículo 6 de la le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979560" y="657360"/>
            <a:ext cx="7184880" cy="938160"/>
          </a:xfrm>
          <a:prstGeom prst="rect">
            <a:avLst/>
          </a:prstGeom>
          <a:noFill/>
          <a:ln w="0">
            <a:noFill/>
          </a:ln>
        </p:spPr>
        <p:txBody>
          <a:bodyPr lIns="0" rIns="0" tIns="500040" bIns="0" anchor="t">
            <a:noAutofit/>
          </a:bodyPr>
          <a:p>
            <a:pPr marL="1073160" indent="0" algn="ctr">
              <a:lnSpc>
                <a:spcPts val="3325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800" spc="-1" strike="noStrike">
                <a:solidFill>
                  <a:srgbClr val="002b82"/>
                </a:solidFill>
                <a:latin typeface="Arial"/>
                <a:ea typeface="Arial"/>
              </a:rPr>
              <a:t>Categorías especiales de datos</a:t>
            </a:r>
            <a:endParaRPr b="0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04" name="object 4"/>
          <p:cNvSpPr/>
          <p:nvPr/>
        </p:nvSpPr>
        <p:spPr>
          <a:xfrm>
            <a:off x="536400" y="6407280"/>
            <a:ext cx="53352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13/12/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object 5"/>
          <p:cNvSpPr/>
          <p:nvPr/>
        </p:nvSpPr>
        <p:spPr>
          <a:xfrm>
            <a:off x="5689440" y="6407280"/>
            <a:ext cx="163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55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76DA5-E91B-4B51-BC1B-C51869CD9D59}" type="slidenum">
              <a:rPr b="0" lang="es-CO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object 3"/>
          <p:cNvSpPr/>
          <p:nvPr/>
        </p:nvSpPr>
        <p:spPr>
          <a:xfrm>
            <a:off x="1905120" y="1884240"/>
            <a:ext cx="6549840" cy="396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55680" indent="-343080">
              <a:buClr>
                <a:srgbClr val="002b82"/>
              </a:buClr>
              <a:buFont typeface="Wingdings" charset="2"/>
              <a:buChar char=""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O" sz="2000" spc="-1" strike="noStrike">
                <a:solidFill>
                  <a:srgbClr val="002b82"/>
                </a:solidFill>
                <a:latin typeface="Arial"/>
                <a:ea typeface="Arial"/>
              </a:rPr>
              <a:t>Datos personales de men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343080">
              <a:lnSpc>
                <a:spcPts val="998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343080">
              <a:lnSpc>
                <a:spcPts val="1397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343080" algn="just"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O" sz="2000" spc="-1" strike="noStrike">
                <a:solidFill>
                  <a:srgbClr val="002b82"/>
                </a:solidFill>
                <a:latin typeface="Arial"/>
                <a:ea typeface="Arial"/>
              </a:rPr>
              <a:t>Se proscribe el tratamiento de datos personales de menores de edad salvo aquellos datos que sean de naturaleza públic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343080">
              <a:lnSpc>
                <a:spcPts val="998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343080">
              <a:lnSpc>
                <a:spcPts val="1397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343080" algn="just"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O" sz="2000" spc="-1" strike="noStrike">
                <a:solidFill>
                  <a:srgbClr val="002b82"/>
                </a:solidFill>
                <a:latin typeface="Arial"/>
                <a:ea typeface="Arial"/>
              </a:rPr>
              <a:t>La Corte Constitucional precisó que tal prohibición debe interpretarse en  el  sentido  de  que  los  datos  personales  de  los  menores  de  18 años, </a:t>
            </a:r>
            <a:r>
              <a:rPr b="1" i="1" lang="es-CO" sz="2000" spc="-1" strike="noStrike">
                <a:solidFill>
                  <a:srgbClr val="002b82"/>
                </a:solidFill>
                <a:latin typeface="Arial"/>
                <a:ea typeface="Arial"/>
              </a:rPr>
              <a:t>pueden ser tratados</a:t>
            </a:r>
            <a:r>
              <a:rPr b="0" i="1" lang="es-CO" sz="2000" spc="-1" strike="noStrike">
                <a:solidFill>
                  <a:srgbClr val="002b82"/>
                </a:solidFill>
                <a:latin typeface="Arial"/>
                <a:ea typeface="Arial"/>
              </a:rPr>
              <a:t>, siempre y cuando el fin que se persiga con dicho tratamiento responda al interés superior de los menores y se asegure el respeto de sus derechos prevalen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12880" y="1073160"/>
            <a:ext cx="7184880" cy="938160"/>
          </a:xfrm>
          <a:prstGeom prst="rect">
            <a:avLst/>
          </a:prstGeom>
          <a:noFill/>
          <a:ln w="0">
            <a:noFill/>
          </a:ln>
        </p:spPr>
        <p:txBody>
          <a:bodyPr lIns="0" rIns="0" tIns="412920" bIns="0" anchor="t">
            <a:noAutofit/>
          </a:bodyPr>
          <a:p>
            <a:pPr marL="2085840" indent="0" algn="ctr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800" spc="-1" strike="noStrike">
                <a:solidFill>
                  <a:srgbClr val="002b82"/>
                </a:solidFill>
                <a:latin typeface="Arial"/>
                <a:ea typeface="Arial"/>
              </a:rPr>
              <a:t>Derechos de los titulares</a:t>
            </a:r>
            <a:endParaRPr b="0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08" name="object 7"/>
          <p:cNvSpPr/>
          <p:nvPr/>
        </p:nvSpPr>
        <p:spPr>
          <a:xfrm>
            <a:off x="536400" y="6407280"/>
            <a:ext cx="53352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13/12/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object 8"/>
          <p:cNvSpPr/>
          <p:nvPr/>
        </p:nvSpPr>
        <p:spPr>
          <a:xfrm>
            <a:off x="5689440" y="6407280"/>
            <a:ext cx="163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55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0199E-92FD-457E-9DF5-1FAA8C16352B}" type="slidenum">
              <a:rPr b="0" lang="es-CO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8"/>
          <p:cNvSpPr/>
          <p:nvPr/>
        </p:nvSpPr>
        <p:spPr>
          <a:xfrm>
            <a:off x="1676520" y="2209680"/>
            <a:ext cx="71802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2b8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002b82"/>
                </a:solidFill>
                <a:latin typeface="Arial"/>
              </a:rPr>
              <a:t>Conocer</a:t>
            </a:r>
            <a:r>
              <a:rPr b="0" lang="es-CO" sz="2000" spc="-1" strike="noStrike">
                <a:solidFill>
                  <a:srgbClr val="002b82"/>
                </a:solidFill>
                <a:latin typeface="Arial"/>
              </a:rPr>
              <a:t>, </a:t>
            </a:r>
            <a:r>
              <a:rPr b="1" lang="es-CO" sz="2000" spc="-1" strike="noStrike">
                <a:solidFill>
                  <a:srgbClr val="002b82"/>
                </a:solidFill>
                <a:latin typeface="Arial"/>
              </a:rPr>
              <a:t>actualizar </a:t>
            </a:r>
            <a:r>
              <a:rPr b="0" lang="es-CO" sz="2000" spc="-1" strike="noStrike">
                <a:solidFill>
                  <a:srgbClr val="002b82"/>
                </a:solidFill>
                <a:latin typeface="Arial"/>
              </a:rPr>
              <a:t>y </a:t>
            </a:r>
            <a:r>
              <a:rPr b="1" lang="es-CO" sz="2000" spc="-1" strike="noStrike">
                <a:solidFill>
                  <a:srgbClr val="002b82"/>
                </a:solidFill>
                <a:latin typeface="Arial"/>
              </a:rPr>
              <a:t>rectificar </a:t>
            </a:r>
            <a:r>
              <a:rPr b="0" lang="es-CO" sz="2000" spc="-1" strike="noStrike">
                <a:solidFill>
                  <a:srgbClr val="002b82"/>
                </a:solidFill>
                <a:latin typeface="Arial"/>
              </a:rPr>
              <a:t>sus datos personales frente a Responsables y Encargad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2b8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2b82"/>
                </a:solidFill>
                <a:latin typeface="Arial"/>
              </a:rPr>
              <a:t>Solicitar prueba de la </a:t>
            </a:r>
            <a:r>
              <a:rPr b="1" lang="es-CO" sz="2000" spc="-1" strike="noStrike">
                <a:solidFill>
                  <a:srgbClr val="002b82"/>
                </a:solidFill>
                <a:latin typeface="Arial"/>
              </a:rPr>
              <a:t>autorización </a:t>
            </a:r>
            <a:r>
              <a:rPr b="0" lang="es-CO" sz="2000" spc="-1" strike="noStrike">
                <a:solidFill>
                  <a:srgbClr val="002b82"/>
                </a:solidFill>
                <a:latin typeface="Arial"/>
              </a:rPr>
              <a:t>al Responsab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2b8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2b82"/>
                </a:solidFill>
                <a:latin typeface="Arial"/>
              </a:rPr>
              <a:t>Ser </a:t>
            </a:r>
            <a:r>
              <a:rPr b="1" lang="es-CO" sz="2000" spc="-1" strike="noStrike">
                <a:solidFill>
                  <a:srgbClr val="002b82"/>
                </a:solidFill>
                <a:latin typeface="Arial"/>
              </a:rPr>
              <a:t>informado </a:t>
            </a:r>
            <a:r>
              <a:rPr b="0" lang="es-CO" sz="2000" spc="-1" strike="noStrike">
                <a:solidFill>
                  <a:srgbClr val="002b82"/>
                </a:solidFill>
                <a:latin typeface="Arial"/>
              </a:rPr>
              <a:t>respecto del uso de los dat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2b8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2b82"/>
                </a:solidFill>
                <a:latin typeface="Arial"/>
              </a:rPr>
              <a:t>Presentar </a:t>
            </a:r>
            <a:r>
              <a:rPr b="1" lang="es-CO" sz="2000" spc="-1" strike="noStrike">
                <a:solidFill>
                  <a:srgbClr val="002b82"/>
                </a:solidFill>
                <a:latin typeface="Arial"/>
              </a:rPr>
              <a:t>quejas </a:t>
            </a:r>
            <a:r>
              <a:rPr b="0" lang="es-CO" sz="2000" spc="-1" strike="noStrike">
                <a:solidFill>
                  <a:srgbClr val="002b82"/>
                </a:solidFill>
                <a:latin typeface="Arial"/>
              </a:rPr>
              <a:t>ante la SI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2b8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002b82"/>
                </a:solidFill>
                <a:latin typeface="Arial"/>
              </a:rPr>
              <a:t>Revocar </a:t>
            </a:r>
            <a:r>
              <a:rPr b="0" lang="es-CO" sz="2000" spc="-1" strike="noStrike">
                <a:solidFill>
                  <a:srgbClr val="002b82"/>
                </a:solidFill>
                <a:latin typeface="Arial"/>
              </a:rPr>
              <a:t>la autorización y/o solicitar la </a:t>
            </a:r>
            <a:r>
              <a:rPr b="1" lang="es-CO" sz="2000" spc="-1" strike="noStrike">
                <a:solidFill>
                  <a:srgbClr val="002b82"/>
                </a:solidFill>
                <a:latin typeface="Arial"/>
              </a:rPr>
              <a:t>supresión </a:t>
            </a:r>
            <a:r>
              <a:rPr b="0" lang="es-CO" sz="2000" spc="-1" strike="noStrike">
                <a:solidFill>
                  <a:srgbClr val="002b82"/>
                </a:solidFill>
                <a:latin typeface="Arial"/>
              </a:rPr>
              <a:t>del dato (no sólo por intermedio de la SIC), 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2b8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2b82"/>
                </a:solidFill>
                <a:latin typeface="Arial"/>
              </a:rPr>
              <a:t>Acceder en forma </a:t>
            </a:r>
            <a:r>
              <a:rPr b="1" lang="es-CO" sz="2000" spc="-1" strike="noStrike">
                <a:solidFill>
                  <a:srgbClr val="002b82"/>
                </a:solidFill>
                <a:latin typeface="Arial"/>
              </a:rPr>
              <a:t>gratuita </a:t>
            </a:r>
            <a:r>
              <a:rPr b="0" lang="es-CO" sz="2000" spc="-1" strike="noStrike">
                <a:solidFill>
                  <a:srgbClr val="002b82"/>
                </a:solidFill>
                <a:latin typeface="Arial"/>
              </a:rPr>
              <a:t>a sus datos personal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084320" y="1219320"/>
            <a:ext cx="7184880" cy="93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382840" indent="0" algn="ctr">
              <a:lnSpc>
                <a:spcPts val="3325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800" spc="-1" strike="noStrike">
                <a:solidFill>
                  <a:srgbClr val="002b82"/>
                </a:solidFill>
                <a:latin typeface="Arial"/>
                <a:ea typeface="Arial"/>
              </a:rPr>
              <a:t>Autorización del titular</a:t>
            </a:r>
            <a:endParaRPr b="0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12" name="object 5"/>
          <p:cNvSpPr/>
          <p:nvPr/>
        </p:nvSpPr>
        <p:spPr>
          <a:xfrm>
            <a:off x="536400" y="6407280"/>
            <a:ext cx="53352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13/12/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bject 6"/>
          <p:cNvSpPr/>
          <p:nvPr/>
        </p:nvSpPr>
        <p:spPr>
          <a:xfrm>
            <a:off x="5689440" y="6407280"/>
            <a:ext cx="163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55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0495B-7A54-424B-96CA-D673312C4732}" type="slidenum">
              <a:rPr b="0" lang="es-CO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object 3"/>
          <p:cNvSpPr/>
          <p:nvPr/>
        </p:nvSpPr>
        <p:spPr>
          <a:xfrm>
            <a:off x="1722600" y="2057400"/>
            <a:ext cx="7421400" cy="346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69800" indent="-457200">
              <a:buClr>
                <a:srgbClr val="002b82"/>
              </a:buClr>
              <a:buFont typeface="Arial"/>
              <a:buChar char="•"/>
              <a:tabLst>
                <a:tab algn="l" pos="468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2b82"/>
                </a:solidFill>
                <a:latin typeface="Arial"/>
                <a:ea typeface="Arial"/>
              </a:rPr>
              <a:t>Debe ser </a:t>
            </a:r>
            <a:r>
              <a:rPr b="1" lang="es-CO" sz="2000" spc="-1" strike="noStrike">
                <a:solidFill>
                  <a:srgbClr val="002b82"/>
                </a:solidFill>
                <a:latin typeface="Arial"/>
                <a:ea typeface="Arial"/>
              </a:rPr>
              <a:t>previa </a:t>
            </a:r>
            <a:r>
              <a:rPr b="0" lang="es-CO" sz="2000" spc="-1" strike="noStrike">
                <a:solidFill>
                  <a:srgbClr val="002b82"/>
                </a:solidFill>
                <a:latin typeface="Arial"/>
                <a:ea typeface="Arial"/>
              </a:rPr>
              <a:t>e </a:t>
            </a:r>
            <a:r>
              <a:rPr b="1" lang="es-CO" sz="2000" spc="-1" strike="noStrike">
                <a:solidFill>
                  <a:srgbClr val="002b82"/>
                </a:solidFill>
                <a:latin typeface="Arial"/>
                <a:ea typeface="Arial"/>
              </a:rPr>
              <a:t>informada </a:t>
            </a:r>
            <a:r>
              <a:rPr b="0" lang="es-CO" sz="2000" spc="-1" strike="noStrike">
                <a:solidFill>
                  <a:srgbClr val="002b82"/>
                </a:solidFill>
                <a:latin typeface="Arial"/>
                <a:ea typeface="Arial"/>
              </a:rPr>
              <a:t>(no tácit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-457200">
              <a:lnSpc>
                <a:spcPts val="2823"/>
              </a:lnSpc>
              <a:buClr>
                <a:srgbClr val="002b82"/>
              </a:buClr>
              <a:buFont typeface="Arial"/>
              <a:buChar char="•"/>
              <a:tabLst>
                <a:tab algn="l" pos="468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2b82"/>
                </a:solidFill>
                <a:latin typeface="Arial"/>
                <a:ea typeface="Arial"/>
              </a:rPr>
              <a:t>Puede ser obtenida por cualquier medio que permita s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-457200">
              <a:lnSpc>
                <a:spcPts val="2361"/>
              </a:lnSpc>
              <a:tabLst>
                <a:tab algn="l" pos="0"/>
                <a:tab algn="l" pos="468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002b82"/>
                </a:solidFill>
                <a:latin typeface="Arial"/>
                <a:ea typeface="Arial"/>
              </a:rPr>
              <a:t>consulta </a:t>
            </a:r>
            <a:r>
              <a:rPr b="0" lang="es-CO" sz="2000" spc="-1" strike="noStrike">
                <a:solidFill>
                  <a:srgbClr val="002b82"/>
                </a:solidFill>
                <a:latin typeface="Arial"/>
                <a:ea typeface="Arial"/>
              </a:rPr>
              <a:t>posteri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-457200">
              <a:buClr>
                <a:srgbClr val="002b82"/>
              </a:buClr>
              <a:buFont typeface="Arial"/>
              <a:buChar char="•"/>
              <a:tabLst>
                <a:tab algn="l" pos="468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2b82"/>
                </a:solidFill>
                <a:latin typeface="Arial"/>
                <a:ea typeface="Arial"/>
              </a:rPr>
              <a:t>No es necesaria en los siguientes cas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>
              <a:lnSpc>
                <a:spcPts val="2823"/>
              </a:lnSpc>
              <a:buClr>
                <a:srgbClr val="002b82"/>
              </a:buClr>
              <a:buFont typeface="Arial"/>
              <a:buChar char="-"/>
              <a:tabLst>
                <a:tab algn="l" pos="468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2b82"/>
                </a:solidFill>
                <a:latin typeface="Arial"/>
                <a:ea typeface="Arial"/>
              </a:rPr>
              <a:t>Cuando la información sea requerida por </a:t>
            </a:r>
            <a:r>
              <a:rPr b="1" lang="es-CO" sz="2000" spc="-1" strike="noStrike">
                <a:solidFill>
                  <a:srgbClr val="002b82"/>
                </a:solidFill>
                <a:latin typeface="Arial"/>
                <a:ea typeface="Arial"/>
              </a:rPr>
              <a:t>ent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-457200">
              <a:lnSpc>
                <a:spcPts val="2361"/>
              </a:lnSpc>
              <a:tabLst>
                <a:tab algn="l" pos="0"/>
                <a:tab algn="l" pos="468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002b82"/>
                </a:solidFill>
                <a:latin typeface="Arial"/>
                <a:ea typeface="Arial"/>
              </a:rPr>
              <a:t>pública </a:t>
            </a:r>
            <a:r>
              <a:rPr b="0" lang="es-CO" sz="2000" spc="-1" strike="noStrike">
                <a:solidFill>
                  <a:srgbClr val="002b82"/>
                </a:solidFill>
                <a:latin typeface="Arial"/>
                <a:ea typeface="Arial"/>
              </a:rPr>
              <a:t>en ejercicio de sus fun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>
              <a:lnSpc>
                <a:spcPct val="100000"/>
              </a:lnSpc>
              <a:buClr>
                <a:srgbClr val="002b82"/>
              </a:buClr>
              <a:buFont typeface="Arial"/>
              <a:buChar char="-"/>
              <a:tabLst>
                <a:tab algn="l" pos="468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2b82"/>
                </a:solidFill>
                <a:latin typeface="Arial"/>
                <a:ea typeface="Arial"/>
              </a:rPr>
              <a:t>Se trate de datos de </a:t>
            </a:r>
            <a:r>
              <a:rPr b="1" lang="es-CO" sz="2000" spc="-1" strike="noStrike">
                <a:solidFill>
                  <a:srgbClr val="002b82"/>
                </a:solidFill>
                <a:latin typeface="Arial"/>
                <a:ea typeface="Arial"/>
              </a:rPr>
              <a:t>naturaleza públ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>
              <a:lnSpc>
                <a:spcPts val="550"/>
              </a:lnSpc>
              <a:spcBef>
                <a:spcPts val="26"/>
              </a:spcBef>
              <a:buClr>
                <a:srgbClr val="002b82"/>
              </a:buClr>
              <a:buFont typeface="Arial"/>
              <a:buChar char="-"/>
              <a:tabLst>
                <a:tab algn="l" pos="468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lvl="1" marL="914400">
              <a:lnSpc>
                <a:spcPct val="80000"/>
              </a:lnSpc>
              <a:buClr>
                <a:srgbClr val="002b82"/>
              </a:buClr>
              <a:buFont typeface="Arial"/>
              <a:buChar char="-"/>
              <a:tabLst>
                <a:tab algn="l" pos="468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2b82"/>
                </a:solidFill>
                <a:latin typeface="Arial"/>
                <a:ea typeface="Arial"/>
              </a:rPr>
              <a:t>En casos de urgencia </a:t>
            </a:r>
            <a:r>
              <a:rPr b="1" lang="es-CO" sz="2000" spc="-1" strike="noStrike">
                <a:solidFill>
                  <a:srgbClr val="002b82"/>
                </a:solidFill>
                <a:latin typeface="Arial"/>
                <a:ea typeface="Arial"/>
              </a:rPr>
              <a:t>médica </a:t>
            </a:r>
            <a:r>
              <a:rPr b="0" lang="es-CO" sz="2000" spc="-1" strike="noStrike">
                <a:solidFill>
                  <a:srgbClr val="002b82"/>
                </a:solidFill>
                <a:latin typeface="Arial"/>
                <a:ea typeface="Arial"/>
              </a:rPr>
              <a:t>o sanitaria (si no es urgencia, debe obtenerse la autorizació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>
              <a:lnSpc>
                <a:spcPct val="100000"/>
              </a:lnSpc>
              <a:buClr>
                <a:srgbClr val="002b82"/>
              </a:buClr>
              <a:buFont typeface="Arial"/>
              <a:buChar char="-"/>
              <a:tabLst>
                <a:tab algn="l" pos="468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2b82"/>
                </a:solidFill>
                <a:latin typeface="Arial"/>
                <a:ea typeface="Arial"/>
              </a:rPr>
              <a:t>Para fines </a:t>
            </a:r>
            <a:r>
              <a:rPr b="1" lang="es-CO" sz="2000" spc="-1" strike="noStrike">
                <a:solidFill>
                  <a:srgbClr val="002b82"/>
                </a:solidFill>
                <a:latin typeface="Arial"/>
                <a:ea typeface="Arial"/>
              </a:rPr>
              <a:t>históricos, estadísticos o científi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>
              <a:lnSpc>
                <a:spcPts val="2849"/>
              </a:lnSpc>
              <a:buClr>
                <a:srgbClr val="002b82"/>
              </a:buClr>
              <a:buFont typeface="Arial"/>
              <a:buChar char="-"/>
              <a:tabLst>
                <a:tab algn="l" pos="468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2b82"/>
                </a:solidFill>
                <a:latin typeface="Arial"/>
                <a:ea typeface="Arial"/>
              </a:rPr>
              <a:t>Datos relacionados con el </a:t>
            </a:r>
            <a:r>
              <a:rPr b="1" lang="es-CO" sz="2000" spc="-1" strike="noStrike">
                <a:solidFill>
                  <a:srgbClr val="002b82"/>
                </a:solidFill>
                <a:latin typeface="Arial"/>
                <a:ea typeface="Arial"/>
              </a:rPr>
              <a:t>Registro Civ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object 2"/>
          <p:cNvSpPr/>
          <p:nvPr/>
        </p:nvSpPr>
        <p:spPr>
          <a:xfrm>
            <a:off x="2363760" y="1219320"/>
            <a:ext cx="5683320" cy="92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800" spc="-1" strike="noStrike">
                <a:solidFill>
                  <a:srgbClr val="002b82"/>
                </a:solidFill>
                <a:latin typeface="Arial"/>
                <a:ea typeface="Arial"/>
              </a:rPr>
              <a:t>Deberes de los Responsables 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5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332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800" spc="-1" strike="noStrike">
                <a:solidFill>
                  <a:srgbClr val="002b82"/>
                </a:solidFill>
                <a:latin typeface="Arial"/>
                <a:ea typeface="Arial"/>
              </a:rPr>
              <a:t>Tratami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object 5"/>
          <p:cNvSpPr/>
          <p:nvPr/>
        </p:nvSpPr>
        <p:spPr>
          <a:xfrm>
            <a:off x="536400" y="6407280"/>
            <a:ext cx="53352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13/12/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object 6"/>
          <p:cNvSpPr/>
          <p:nvPr/>
        </p:nvSpPr>
        <p:spPr>
          <a:xfrm>
            <a:off x="5689440" y="6407280"/>
            <a:ext cx="163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55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00954-3BED-4000-95E8-EFFFD3DC4573}" type="slidenum">
              <a:rPr b="0" lang="es-CO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object 3"/>
          <p:cNvSpPr/>
          <p:nvPr/>
        </p:nvSpPr>
        <p:spPr>
          <a:xfrm>
            <a:off x="1600200" y="2514600"/>
            <a:ext cx="7211880" cy="32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69800" indent="-457200" algn="just">
              <a:lnSpc>
                <a:spcPts val="2299"/>
              </a:lnSpc>
              <a:buClr>
                <a:srgbClr val="002b82"/>
              </a:buClr>
              <a:buFont typeface="Arial"/>
              <a:buChar char="•"/>
              <a:tabLst>
                <a:tab algn="l" pos="468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002b82"/>
                </a:solidFill>
                <a:latin typeface="Arial"/>
                <a:ea typeface="Arial"/>
              </a:rPr>
              <a:t>Autorización del titular: </a:t>
            </a:r>
            <a:r>
              <a:rPr b="0" lang="es-CO" sz="2000" spc="-1" strike="noStrike">
                <a:solidFill>
                  <a:srgbClr val="002b82"/>
                </a:solidFill>
                <a:latin typeface="Arial"/>
                <a:ea typeface="Arial"/>
              </a:rPr>
              <a:t>Debe solicitarla y conservarla e informar  al  titular  la  finalidad  de  la  recolección  y  los derechos que le asist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-457200">
              <a:lnSpc>
                <a:spcPts val="998"/>
              </a:lnSpc>
              <a:buClr>
                <a:srgbClr val="002b82"/>
              </a:buClr>
              <a:buFont typeface="Arial"/>
              <a:buChar char="•"/>
              <a:tabLst>
                <a:tab algn="l" pos="468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469800" indent="-457200">
              <a:lnSpc>
                <a:spcPts val="998"/>
              </a:lnSpc>
              <a:buClr>
                <a:srgbClr val="002b82"/>
              </a:buClr>
              <a:buFont typeface="Arial"/>
              <a:buChar char="•"/>
              <a:tabLst>
                <a:tab algn="l" pos="468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469800" indent="-457200">
              <a:lnSpc>
                <a:spcPts val="1397"/>
              </a:lnSpc>
              <a:spcBef>
                <a:spcPts val="74"/>
              </a:spcBef>
              <a:buClr>
                <a:srgbClr val="002b82"/>
              </a:buClr>
              <a:buFont typeface="Arial"/>
              <a:buChar char="•"/>
              <a:tabLst>
                <a:tab algn="l" pos="468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69800" indent="-457200" algn="just">
              <a:lnSpc>
                <a:spcPct val="80000"/>
              </a:lnSpc>
              <a:buClr>
                <a:srgbClr val="002b82"/>
              </a:buClr>
              <a:buFont typeface="Arial"/>
              <a:buChar char="•"/>
              <a:tabLst>
                <a:tab algn="l" pos="468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002b82"/>
                </a:solidFill>
                <a:latin typeface="Arial"/>
                <a:ea typeface="Arial"/>
              </a:rPr>
              <a:t>Calidad  de  la  información:  </a:t>
            </a:r>
            <a:r>
              <a:rPr b="0" lang="es-CO" sz="2000" spc="-1" strike="noStrike">
                <a:solidFill>
                  <a:srgbClr val="002b82"/>
                </a:solidFill>
                <a:latin typeface="Arial"/>
                <a:ea typeface="Arial"/>
              </a:rPr>
              <a:t>Debe  garantizar  que  la información  sea  veraz,  completa,  exacta,  actualizada, comprobable  y  comprensible,  actualizar  la  información comunicando  al  encargado  las  novedades  y  adoptar medidas  para  que  la  misma  se  mantenga  actualizada. Adicionalmente debe rectificar la información incorrecta y comunicar al encargado e indicarle cuando la información este en discusión por parte de su titul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object 2"/>
          <p:cNvSpPr/>
          <p:nvPr/>
        </p:nvSpPr>
        <p:spPr>
          <a:xfrm>
            <a:off x="2635200" y="971640"/>
            <a:ext cx="5683320" cy="86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002b82"/>
                </a:solidFill>
                <a:latin typeface="Arial"/>
                <a:ea typeface="Arial"/>
              </a:rPr>
              <a:t>Deberes de los Responsables 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5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332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002b82"/>
                </a:solidFill>
                <a:latin typeface="Arial"/>
                <a:ea typeface="Arial"/>
              </a:rPr>
              <a:t>Tratamiento (I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object 5"/>
          <p:cNvSpPr/>
          <p:nvPr/>
        </p:nvSpPr>
        <p:spPr>
          <a:xfrm>
            <a:off x="536400" y="6407280"/>
            <a:ext cx="53352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13/12/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object 6"/>
          <p:cNvSpPr/>
          <p:nvPr/>
        </p:nvSpPr>
        <p:spPr>
          <a:xfrm>
            <a:off x="5689440" y="6407280"/>
            <a:ext cx="163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55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C9CFE-B68F-40B9-B6C2-34945B6DECF4}" type="slidenum">
              <a:rPr b="0" lang="es-CO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object 3"/>
          <p:cNvSpPr/>
          <p:nvPr/>
        </p:nvSpPr>
        <p:spPr>
          <a:xfrm>
            <a:off x="1698480" y="1998720"/>
            <a:ext cx="7258320" cy="40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69800" indent="-457200" algn="just">
              <a:lnSpc>
                <a:spcPct val="80000"/>
              </a:lnSpc>
              <a:buClr>
                <a:srgbClr val="002b82"/>
              </a:buClr>
              <a:buFont typeface="Arial"/>
              <a:buChar char="•"/>
              <a:tabLst>
                <a:tab algn="l" pos="468360"/>
                <a:tab algn="l" pos="890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002b82"/>
                </a:solidFill>
                <a:latin typeface="Arial"/>
                <a:ea typeface="Arial"/>
              </a:rPr>
              <a:t>Seguridad    de    la    información:    </a:t>
            </a:r>
            <a:r>
              <a:rPr b="0" lang="es-CO" sz="2000" spc="-1" strike="noStrike">
                <a:solidFill>
                  <a:srgbClr val="002b82"/>
                </a:solidFill>
                <a:latin typeface="Arial"/>
                <a:ea typeface="Arial"/>
              </a:rPr>
              <a:t>Debe    impedir    la adulteración, pérdida, consulta, uso o acceso no autorizado o</a:t>
            </a:r>
            <a:r>
              <a:rPr b="0" lang="es-CO" sz="2000" spc="-1" strike="noStrike">
                <a:solidFill>
                  <a:srgbClr val="002b82"/>
                </a:solidFill>
                <a:latin typeface="Arial"/>
                <a:ea typeface="Arial"/>
              </a:rPr>
              <a:t>	</a:t>
            </a:r>
            <a:r>
              <a:rPr b="0" lang="es-CO" sz="2000" spc="-1" strike="noStrike">
                <a:solidFill>
                  <a:srgbClr val="002b82"/>
                </a:solidFill>
                <a:latin typeface="Arial"/>
                <a:ea typeface="Arial"/>
              </a:rPr>
              <a:t>fraudulento,   exigir   al   encargado   el   respeto   a   las condiciones de seguridad y privacidad, adoptar un manual interno   de   políticas   y   procedimientos   e   informar   a   la autoridad cuando se presenten violaciones a los códigos de seguridad  que  generen  riesgos  en  la  administración  de  la inform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-457200">
              <a:lnSpc>
                <a:spcPts val="550"/>
              </a:lnSpc>
              <a:buClr>
                <a:srgbClr val="002b82"/>
              </a:buClr>
              <a:buFont typeface="Arial"/>
              <a:buChar char="•"/>
              <a:tabLst>
                <a:tab algn="l" pos="468360"/>
                <a:tab algn="l" pos="890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469800" indent="-457200" algn="just">
              <a:lnSpc>
                <a:spcPct val="80000"/>
              </a:lnSpc>
              <a:buClr>
                <a:srgbClr val="002b82"/>
              </a:buClr>
              <a:buFont typeface="Arial"/>
              <a:buChar char="•"/>
              <a:tabLst>
                <a:tab algn="l" pos="468360"/>
                <a:tab algn="l" pos="890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002b82"/>
                </a:solidFill>
                <a:latin typeface="Arial"/>
                <a:ea typeface="Arial"/>
              </a:rPr>
              <a:t>Tratamiento:  </a:t>
            </a:r>
            <a:r>
              <a:rPr b="0" lang="es-CO" sz="2000" spc="-1" strike="noStrike">
                <a:solidFill>
                  <a:srgbClr val="002b82"/>
                </a:solidFill>
                <a:latin typeface="Arial"/>
                <a:ea typeface="Arial"/>
              </a:rPr>
              <a:t>Debe  suministrar  al  encargado  únicamente datos   cuyo   tratamiento   esté   previamente   autorizado   e informar,  a  solicitud  del  titular,  sobre  el  uso  dado  a  su inform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-457200">
              <a:lnSpc>
                <a:spcPts val="550"/>
              </a:lnSpc>
              <a:buClr>
                <a:srgbClr val="002b82"/>
              </a:buClr>
              <a:buFont typeface="Arial"/>
              <a:buChar char="•"/>
              <a:tabLst>
                <a:tab algn="l" pos="468360"/>
                <a:tab algn="l" pos="890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469800" indent="-457200" algn="just">
              <a:lnSpc>
                <a:spcPct val="80000"/>
              </a:lnSpc>
              <a:buClr>
                <a:srgbClr val="002b82"/>
              </a:buClr>
              <a:buFont typeface="Arial"/>
              <a:buChar char="•"/>
              <a:tabLst>
                <a:tab algn="l" pos="468360"/>
                <a:tab algn="l" pos="890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2b82"/>
                </a:solidFill>
                <a:latin typeface="Arial"/>
                <a:ea typeface="Arial"/>
              </a:rPr>
              <a:t>Adicionalmente debe garantizar al titular, en todo tiempo, el pleno y efectivo ejercicio de su derecho de hábeas data y tramitar   las   consultas   y   reclamos   presentados,   en   los términos señalados en la le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object 2"/>
          <p:cNvSpPr/>
          <p:nvPr/>
        </p:nvSpPr>
        <p:spPr>
          <a:xfrm>
            <a:off x="3036960" y="835200"/>
            <a:ext cx="5305320" cy="86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646280" indent="-1633680">
              <a:lnSpc>
                <a:spcPct val="118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002b82"/>
                </a:solidFill>
                <a:latin typeface="Arial"/>
                <a:ea typeface="Arial"/>
              </a:rPr>
              <a:t>Deberes de los Encargados del Tratami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object 5"/>
          <p:cNvSpPr/>
          <p:nvPr/>
        </p:nvSpPr>
        <p:spPr>
          <a:xfrm>
            <a:off x="536400" y="6407280"/>
            <a:ext cx="53352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13/12/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object 6"/>
          <p:cNvSpPr/>
          <p:nvPr/>
        </p:nvSpPr>
        <p:spPr>
          <a:xfrm>
            <a:off x="5689440" y="6407280"/>
            <a:ext cx="163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55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4DB58-E276-4782-9470-89C900024AD1}" type="slidenum">
              <a:rPr b="0" lang="es-CO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bject 3"/>
          <p:cNvSpPr/>
          <p:nvPr/>
        </p:nvSpPr>
        <p:spPr>
          <a:xfrm>
            <a:off x="1627200" y="1797120"/>
            <a:ext cx="7338960" cy="43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69800" indent="-457200" algn="just">
              <a:lnSpc>
                <a:spcPct val="80000"/>
              </a:lnSpc>
              <a:buClr>
                <a:srgbClr val="002b82"/>
              </a:buClr>
              <a:buFont typeface="Arial"/>
              <a:buChar char="•"/>
              <a:tabLst>
                <a:tab algn="l" pos="468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002b82"/>
                </a:solidFill>
                <a:latin typeface="Arial"/>
                <a:ea typeface="Arial"/>
              </a:rPr>
              <a:t>Seguridad de la información: </a:t>
            </a:r>
            <a:r>
              <a:rPr b="0" lang="es-CO" sz="2000" spc="-1" strike="noStrike">
                <a:solidFill>
                  <a:srgbClr val="002b82"/>
                </a:solidFill>
                <a:latin typeface="Arial"/>
                <a:ea typeface="Arial"/>
              </a:rPr>
              <a:t>Debe impedir la adulteración, pérdida,  consulta,  uso  o acceso  no autorizado  o fraudulento, adoptar  un  manual  interno  de  políticas  y  procedimientos  e informar a la autoridad cuando se presenten violaciones a los códigos    de    seguridad    que    generen    riesgos    en    la administración de la inform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-457200">
              <a:lnSpc>
                <a:spcPts val="998"/>
              </a:lnSpc>
              <a:buClr>
                <a:srgbClr val="002b82"/>
              </a:buClr>
              <a:buFont typeface="Arial"/>
              <a:buChar char="•"/>
              <a:tabLst>
                <a:tab algn="l" pos="468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469800" indent="-457200">
              <a:lnSpc>
                <a:spcPts val="998"/>
              </a:lnSpc>
              <a:buClr>
                <a:srgbClr val="002b82"/>
              </a:buClr>
              <a:buFont typeface="Arial"/>
              <a:buChar char="•"/>
              <a:tabLst>
                <a:tab algn="l" pos="468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469800" indent="-457200">
              <a:lnSpc>
                <a:spcPts val="1100"/>
              </a:lnSpc>
              <a:spcBef>
                <a:spcPts val="74"/>
              </a:spcBef>
              <a:buClr>
                <a:srgbClr val="002b82"/>
              </a:buClr>
              <a:buFont typeface="Arial"/>
              <a:buChar char="•"/>
              <a:tabLst>
                <a:tab algn="l" pos="468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69800" indent="-457200" algn="just">
              <a:lnSpc>
                <a:spcPct val="80000"/>
              </a:lnSpc>
              <a:buClr>
                <a:srgbClr val="002b82"/>
              </a:buClr>
              <a:buFont typeface="Arial"/>
              <a:buChar char="•"/>
              <a:tabLst>
                <a:tab algn="l" pos="468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002b82"/>
                </a:solidFill>
                <a:latin typeface="Arial"/>
                <a:ea typeface="Arial"/>
              </a:rPr>
              <a:t>Calidad  de  la  información:  </a:t>
            </a:r>
            <a:r>
              <a:rPr b="0" lang="es-CO" sz="2000" spc="-1" strike="noStrike">
                <a:solidFill>
                  <a:srgbClr val="002b82"/>
                </a:solidFill>
                <a:latin typeface="Arial"/>
                <a:ea typeface="Arial"/>
              </a:rPr>
              <a:t>Debe  realizar  oportunamente  la actualización, rectificación o supresión de los datos erróneos, actualizar   la   información   reportada   por   los   responsables dentro</a:t>
            </a:r>
            <a:r>
              <a:rPr b="0" lang="es-CO" sz="2000" spc="-1" strike="noStrike">
                <a:solidFill>
                  <a:srgbClr val="002b82"/>
                </a:solidFill>
                <a:latin typeface="Arial"/>
                <a:ea typeface="Arial"/>
              </a:rPr>
              <a:t>	</a:t>
            </a:r>
            <a:r>
              <a:rPr b="0" lang="es-CO" sz="2000" spc="-1" strike="noStrike">
                <a:solidFill>
                  <a:srgbClr val="002b82"/>
                </a:solidFill>
                <a:latin typeface="Arial"/>
                <a:ea typeface="Arial"/>
              </a:rPr>
              <a:t>de  los  5  días  hábiles  contados  a  partir  de  su  recibo, registrar  en  la  base  las  leyendas  de  </a:t>
            </a:r>
            <a:r>
              <a:rPr b="0" i="1" lang="es-CO" sz="2000" spc="-1" strike="noStrike">
                <a:solidFill>
                  <a:srgbClr val="002b82"/>
                </a:solidFill>
                <a:latin typeface="Arial"/>
                <a:ea typeface="Arial"/>
              </a:rPr>
              <a:t>«reclamo  en  trámite»  </a:t>
            </a:r>
            <a:r>
              <a:rPr b="0" lang="es-CO" sz="2000" spc="-1" strike="noStrike">
                <a:solidFill>
                  <a:srgbClr val="002b82"/>
                </a:solidFill>
                <a:latin typeface="Arial"/>
                <a:ea typeface="Arial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-457200" algn="just">
              <a:lnSpc>
                <a:spcPct val="80000"/>
              </a:lnSpc>
              <a:tabLst>
                <a:tab algn="l" pos="0"/>
                <a:tab algn="l" pos="468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O" sz="2000" spc="-1" strike="noStrike">
                <a:solidFill>
                  <a:srgbClr val="002b82"/>
                </a:solidFill>
                <a:latin typeface="Arial"/>
                <a:ea typeface="Arial"/>
              </a:rPr>
              <a:t>«información  en  discusión  judicial»  </a:t>
            </a:r>
            <a:r>
              <a:rPr b="0" lang="es-CO" sz="2000" spc="-1" strike="noStrike">
                <a:solidFill>
                  <a:srgbClr val="002b82"/>
                </a:solidFill>
                <a:latin typeface="Arial"/>
                <a:ea typeface="Arial"/>
              </a:rPr>
              <a:t>y  abstenerse  de  circular información controvertida y cuyo bloqueo haya sido ordenado por la Superintendencia de Industria y Comerci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681200" y="1143000"/>
            <a:ext cx="7184880" cy="110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002b82"/>
                </a:solidFill>
                <a:latin typeface="Arial"/>
                <a:ea typeface="Arial"/>
              </a:rPr>
              <a:t>Deberes de los Encargados del</a:t>
            </a:r>
            <a:br>
              <a:rPr sz="2400"/>
            </a:br>
            <a:br>
              <a:rPr sz="2400"/>
            </a:br>
            <a:r>
              <a:rPr b="1" lang="es-CO" sz="2400" spc="-1" strike="noStrike">
                <a:solidFill>
                  <a:srgbClr val="002b82"/>
                </a:solidFill>
                <a:latin typeface="Arial"/>
                <a:ea typeface="Arial"/>
              </a:rPr>
              <a:t>Tratamiento (II)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28" name="object 5"/>
          <p:cNvSpPr/>
          <p:nvPr/>
        </p:nvSpPr>
        <p:spPr>
          <a:xfrm>
            <a:off x="536400" y="6407280"/>
            <a:ext cx="53352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13/12/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object 6"/>
          <p:cNvSpPr/>
          <p:nvPr/>
        </p:nvSpPr>
        <p:spPr>
          <a:xfrm>
            <a:off x="5689440" y="6407280"/>
            <a:ext cx="163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55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620E2-F250-4839-B369-C17AF144159F}" type="slidenum">
              <a:rPr b="0" lang="es-CO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object 3"/>
          <p:cNvSpPr/>
          <p:nvPr/>
        </p:nvSpPr>
        <p:spPr>
          <a:xfrm>
            <a:off x="1708200" y="2631960"/>
            <a:ext cx="7130880" cy="25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69800" indent="-457200" algn="just">
              <a:lnSpc>
                <a:spcPct val="80000"/>
              </a:lnSpc>
              <a:buClr>
                <a:srgbClr val="002b82"/>
              </a:buClr>
              <a:buFont typeface="Arial"/>
              <a:buChar char="•"/>
              <a:tabLst>
                <a:tab algn="l" pos="468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2b82"/>
                </a:solidFill>
                <a:latin typeface="Arial"/>
                <a:ea typeface="Arial"/>
              </a:rPr>
              <a:t>Debe  permitir  el  acceso  a  la  información  únicamente  a las  personas  que  puedan  tener  acceso  a  ella,  en  los términos señalados en la le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-457200">
              <a:lnSpc>
                <a:spcPts val="998"/>
              </a:lnSpc>
              <a:buClr>
                <a:srgbClr val="002b82"/>
              </a:buClr>
              <a:buFont typeface="Arial"/>
              <a:buChar char="•"/>
              <a:tabLst>
                <a:tab algn="l" pos="468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-457200">
              <a:lnSpc>
                <a:spcPts val="998"/>
              </a:lnSpc>
              <a:buClr>
                <a:srgbClr val="002b82"/>
              </a:buClr>
              <a:buFont typeface="Arial"/>
              <a:buChar char="•"/>
              <a:tabLst>
                <a:tab algn="l" pos="468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-457200">
              <a:lnSpc>
                <a:spcPts val="1397"/>
              </a:lnSpc>
              <a:spcBef>
                <a:spcPts val="62"/>
              </a:spcBef>
              <a:buClr>
                <a:srgbClr val="002b82"/>
              </a:buClr>
              <a:buFont typeface="Arial"/>
              <a:buChar char="•"/>
              <a:tabLst>
                <a:tab algn="l" pos="468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-457200" algn="just">
              <a:lnSpc>
                <a:spcPct val="80000"/>
              </a:lnSpc>
              <a:buClr>
                <a:srgbClr val="002b82"/>
              </a:buClr>
              <a:buFont typeface="Arial"/>
              <a:buChar char="•"/>
              <a:tabLst>
                <a:tab algn="l" pos="468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2b82"/>
                </a:solidFill>
                <a:latin typeface="Arial"/>
                <a:ea typeface="Arial"/>
              </a:rPr>
              <a:t>Debe  garantizar  al  titular,  en  todo  tiempo,  el  pleno  y efectivo</a:t>
            </a:r>
            <a:r>
              <a:rPr b="0" lang="es-CO" sz="2000" spc="-1" strike="noStrike">
                <a:solidFill>
                  <a:srgbClr val="002b82"/>
                </a:solidFill>
                <a:latin typeface="Arial"/>
                <a:ea typeface="Arial"/>
              </a:rPr>
              <a:t>	</a:t>
            </a:r>
            <a:r>
              <a:rPr b="0" lang="es-CO" sz="2000" spc="-1" strike="noStrike">
                <a:solidFill>
                  <a:srgbClr val="002b82"/>
                </a:solidFill>
                <a:latin typeface="Arial"/>
                <a:ea typeface="Arial"/>
              </a:rPr>
              <a:t>ejercicio   de   su   derecho   de   hábeas   data   y tramitar  las  consultas  y  reclamos  presentados,  en  los términos señalados en la le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1117080"/>
            <a:ext cx="7185240" cy="938520"/>
          </a:xfrm>
          <a:prstGeom prst="rect">
            <a:avLst/>
          </a:prstGeom>
          <a:noFill/>
          <a:ln w="0">
            <a:noFill/>
          </a:ln>
        </p:spPr>
        <p:txBody>
          <a:bodyPr lIns="0" rIns="0" tIns="357840" bIns="0" anchor="t">
            <a:noAutofit/>
          </a:bodyPr>
          <a:p>
            <a:pPr marL="2157480" indent="0" algn="ctr">
              <a:lnSpc>
                <a:spcPts val="4286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002b82"/>
                </a:solidFill>
                <a:latin typeface="Arial"/>
                <a:ea typeface="Arial"/>
              </a:rPr>
              <a:t>Procedimientos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32" name="object 5"/>
          <p:cNvSpPr/>
          <p:nvPr/>
        </p:nvSpPr>
        <p:spPr>
          <a:xfrm>
            <a:off x="536400" y="6407280"/>
            <a:ext cx="53352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13/12/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object 6"/>
          <p:cNvSpPr/>
          <p:nvPr/>
        </p:nvSpPr>
        <p:spPr>
          <a:xfrm>
            <a:off x="5689440" y="6407280"/>
            <a:ext cx="163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55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B619B-D97F-4B5C-A0FC-B1FB81F5E7A4}" type="slidenum">
              <a:rPr b="0" lang="es-CO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object 3"/>
          <p:cNvSpPr/>
          <p:nvPr/>
        </p:nvSpPr>
        <p:spPr>
          <a:xfrm>
            <a:off x="1676520" y="2514600"/>
            <a:ext cx="7103880" cy="24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69800" indent="-457200" algn="just">
              <a:buClr>
                <a:srgbClr val="002b82"/>
              </a:buClr>
              <a:buFont typeface="Arial"/>
              <a:buChar char="•"/>
              <a:tabLst>
                <a:tab algn="l" pos="468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2b82"/>
                </a:solidFill>
                <a:latin typeface="Arial"/>
                <a:ea typeface="Arial"/>
              </a:rPr>
              <a:t>Se    establecen    los    mismos    procedimientos previstos  en  la  </a:t>
            </a:r>
            <a:r>
              <a:rPr b="1" lang="es-CO" sz="2000" spc="-1" strike="noStrike">
                <a:solidFill>
                  <a:srgbClr val="002b82"/>
                </a:solidFill>
                <a:latin typeface="Arial"/>
                <a:ea typeface="Arial"/>
              </a:rPr>
              <a:t>Ley  1266  de  2008</a:t>
            </a:r>
            <a:r>
              <a:rPr b="0" lang="es-CO" sz="2000" spc="-1" strike="noStrike">
                <a:solidFill>
                  <a:srgbClr val="002b82"/>
                </a:solidFill>
                <a:latin typeface="Arial"/>
                <a:ea typeface="Arial"/>
              </a:rPr>
              <a:t>:  Consultas  y reclam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-457200" algn="just">
              <a:buClr>
                <a:srgbClr val="002b82"/>
              </a:buClr>
              <a:buFont typeface="Arial"/>
              <a:buChar char="•"/>
              <a:tabLst>
                <a:tab algn="l" pos="468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2b82"/>
                </a:solidFill>
                <a:latin typeface="Arial"/>
                <a:ea typeface="Arial"/>
              </a:rPr>
              <a:t>Se  permite  definir  términos  inferiores  para  las consultas en leyes o reglamentos, atendiendo la </a:t>
            </a:r>
            <a:r>
              <a:rPr b="1" lang="es-CO" sz="2000" spc="-1" strike="noStrike">
                <a:solidFill>
                  <a:srgbClr val="002b82"/>
                </a:solidFill>
                <a:latin typeface="Arial"/>
                <a:ea typeface="Arial"/>
              </a:rPr>
              <a:t>naturaleza </a:t>
            </a:r>
            <a:r>
              <a:rPr b="0" lang="es-CO" sz="2000" spc="-1" strike="noStrike">
                <a:solidFill>
                  <a:srgbClr val="002b82"/>
                </a:solidFill>
                <a:latin typeface="Arial"/>
                <a:ea typeface="Arial"/>
              </a:rPr>
              <a:t>del da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-457200">
              <a:buClr>
                <a:srgbClr val="002b82"/>
              </a:buClr>
              <a:buFont typeface="Arial"/>
              <a:buChar char="•"/>
              <a:tabLst>
                <a:tab algn="l" pos="468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2b82"/>
                </a:solidFill>
                <a:latin typeface="Arial"/>
                <a:ea typeface="Arial"/>
              </a:rPr>
              <a:t>Se</a:t>
            </a:r>
            <a:r>
              <a:rPr b="0" lang="es-CO" sz="2000" spc="-1" strike="noStrike">
                <a:solidFill>
                  <a:srgbClr val="002b82"/>
                </a:solidFill>
                <a:latin typeface="Arial"/>
                <a:ea typeface="Arial"/>
              </a:rPr>
              <a:t>	</a:t>
            </a:r>
            <a:r>
              <a:rPr b="0" lang="es-CO" sz="2000" spc="-1" strike="noStrike">
                <a:solidFill>
                  <a:srgbClr val="002b82"/>
                </a:solidFill>
                <a:latin typeface="Arial"/>
                <a:ea typeface="Arial"/>
              </a:rPr>
              <a:t>conserva</a:t>
            </a:r>
            <a:r>
              <a:rPr b="0" lang="es-CO" sz="2000" spc="-1" strike="noStrike">
                <a:solidFill>
                  <a:srgbClr val="002b82"/>
                </a:solidFill>
                <a:latin typeface="Arial"/>
                <a:ea typeface="Arial"/>
              </a:rPr>
              <a:t>	</a:t>
            </a:r>
            <a:r>
              <a:rPr b="0" lang="es-CO" sz="2000" spc="-1" strike="noStrike">
                <a:solidFill>
                  <a:srgbClr val="002b82"/>
                </a:solidFill>
                <a:latin typeface="Arial"/>
                <a:ea typeface="Arial"/>
              </a:rPr>
              <a:t>el</a:t>
            </a:r>
            <a:r>
              <a:rPr b="0" lang="es-CO" sz="2000" spc="-1" strike="noStrike">
                <a:solidFill>
                  <a:srgbClr val="002b82"/>
                </a:solidFill>
                <a:latin typeface="Arial"/>
                <a:ea typeface="Arial"/>
              </a:rPr>
              <a:t>	</a:t>
            </a:r>
            <a:r>
              <a:rPr b="1" lang="es-CO" sz="2000" spc="-1" strike="noStrike">
                <a:solidFill>
                  <a:srgbClr val="002b82"/>
                </a:solidFill>
                <a:latin typeface="Arial"/>
                <a:ea typeface="Arial"/>
              </a:rPr>
              <a:t>requisito</a:t>
            </a:r>
            <a:r>
              <a:rPr b="1" lang="es-CO" sz="2000" spc="-1" strike="noStrike">
                <a:solidFill>
                  <a:srgbClr val="002b82"/>
                </a:solidFill>
                <a:latin typeface="Arial"/>
                <a:ea typeface="Arial"/>
              </a:rPr>
              <a:t>	</a:t>
            </a:r>
            <a:r>
              <a:rPr b="1" lang="es-CO" sz="2000" spc="-1" strike="noStrike">
                <a:solidFill>
                  <a:srgbClr val="002b82"/>
                </a:solidFill>
                <a:latin typeface="Arial"/>
                <a:ea typeface="Arial"/>
              </a:rPr>
              <a:t>de procedibilidad </a:t>
            </a:r>
            <a:r>
              <a:rPr b="0" lang="es-CO" sz="2000" spc="-1" strike="noStrike">
                <a:solidFill>
                  <a:srgbClr val="002b82"/>
                </a:solidFill>
                <a:latin typeface="Arial"/>
                <a:ea typeface="Arial"/>
              </a:rPr>
              <a:t>para elevar queja ante la SI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219320" y="1219320"/>
            <a:ext cx="5387760" cy="93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82880" indent="0" algn="ctr">
              <a:lnSpc>
                <a:spcPts val="3325"/>
              </a:lnSpc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800" spc="-1" strike="noStrike">
                <a:solidFill>
                  <a:srgbClr val="002b82"/>
                </a:solidFill>
                <a:latin typeface="Arial"/>
                <a:ea typeface="Arial"/>
              </a:rPr>
              <a:t>Sanciones</a:t>
            </a:r>
            <a:endParaRPr b="0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36" name="object 5"/>
          <p:cNvSpPr/>
          <p:nvPr/>
        </p:nvSpPr>
        <p:spPr>
          <a:xfrm>
            <a:off x="536400" y="6407280"/>
            <a:ext cx="53352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13/12/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object 6"/>
          <p:cNvSpPr/>
          <p:nvPr/>
        </p:nvSpPr>
        <p:spPr>
          <a:xfrm>
            <a:off x="5689440" y="6407280"/>
            <a:ext cx="163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55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D7D82-366B-455C-8107-C1BCBABE8BE4}" type="slidenum">
              <a:rPr b="0" lang="es-CO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object 3"/>
          <p:cNvSpPr/>
          <p:nvPr/>
        </p:nvSpPr>
        <p:spPr>
          <a:xfrm>
            <a:off x="1636560" y="1905120"/>
            <a:ext cx="7180560" cy="35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55680" indent="-343080">
              <a:lnSpc>
                <a:spcPts val="3285"/>
              </a:lnSpc>
              <a:buClr>
                <a:srgbClr val="002b82"/>
              </a:buClr>
              <a:buFont typeface="Arial"/>
              <a:buChar char="•"/>
              <a:tabLst>
                <a:tab algn="l" pos="353880"/>
                <a:tab algn="l" pos="1744560"/>
                <a:tab algn="l" pos="2403360"/>
                <a:tab algn="l" pos="3952800"/>
                <a:tab algn="l" pos="5699160"/>
                <a:tab algn="l" pos="6159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002b82"/>
                </a:solidFill>
                <a:latin typeface="Arial"/>
                <a:ea typeface="Arial"/>
              </a:rPr>
              <a:t>Multas</a:t>
            </a:r>
            <a:r>
              <a:rPr b="1" lang="es-CO" sz="2400" spc="-1" strike="noStrike">
                <a:solidFill>
                  <a:srgbClr val="002b82"/>
                </a:solidFill>
                <a:latin typeface="Arial"/>
                <a:ea typeface="Arial"/>
              </a:rPr>
              <a:t>	</a:t>
            </a:r>
            <a:r>
              <a:rPr b="0" lang="es-CO" sz="2400" spc="-1" strike="noStrike">
                <a:solidFill>
                  <a:srgbClr val="002b82"/>
                </a:solidFill>
                <a:latin typeface="Arial"/>
                <a:ea typeface="Arial"/>
              </a:rPr>
              <a:t>de</a:t>
            </a:r>
            <a:r>
              <a:rPr b="0" lang="es-CO" sz="2400" spc="-1" strike="noStrike">
                <a:solidFill>
                  <a:srgbClr val="002b82"/>
                </a:solidFill>
                <a:latin typeface="Arial"/>
                <a:ea typeface="Arial"/>
              </a:rPr>
              <a:t>	</a:t>
            </a:r>
            <a:r>
              <a:rPr b="0" lang="es-CO" sz="2400" spc="-1" strike="noStrike">
                <a:solidFill>
                  <a:srgbClr val="002b82"/>
                </a:solidFill>
                <a:latin typeface="Arial"/>
                <a:ea typeface="Arial"/>
              </a:rPr>
              <a:t>carácter</a:t>
            </a:r>
            <a:r>
              <a:rPr b="0" lang="es-CO" sz="2400" spc="-1" strike="noStrike">
                <a:solidFill>
                  <a:srgbClr val="002b82"/>
                </a:solidFill>
                <a:latin typeface="Arial"/>
                <a:ea typeface="Arial"/>
              </a:rPr>
              <a:t>	</a:t>
            </a:r>
            <a:r>
              <a:rPr b="1" lang="es-CO" sz="2400" spc="-1" strike="noStrike">
                <a:solidFill>
                  <a:srgbClr val="002b82"/>
                </a:solidFill>
                <a:latin typeface="Arial"/>
                <a:ea typeface="Arial"/>
              </a:rPr>
              <a:t>personal</a:t>
            </a:r>
            <a:r>
              <a:rPr b="1" lang="es-CO" sz="2400" spc="-1" strike="noStrike">
                <a:solidFill>
                  <a:srgbClr val="002b82"/>
                </a:solidFill>
                <a:latin typeface="Arial"/>
                <a:ea typeface="Arial"/>
              </a:rPr>
              <a:t>	</a:t>
            </a:r>
            <a:r>
              <a:rPr b="0" lang="es-CO" sz="2400" spc="-1" strike="noStrike">
                <a:solidFill>
                  <a:srgbClr val="002b82"/>
                </a:solidFill>
                <a:latin typeface="Arial"/>
                <a:ea typeface="Arial"/>
              </a:rPr>
              <a:t>e </a:t>
            </a:r>
            <a:r>
              <a:rPr b="1" lang="es-CO" sz="2400" spc="-1" strike="noStrike">
                <a:solidFill>
                  <a:srgbClr val="002b82"/>
                </a:solidFill>
                <a:latin typeface="Arial"/>
                <a:ea typeface="Arial"/>
              </a:rPr>
              <a:t>institucional </a:t>
            </a:r>
            <a:r>
              <a:rPr b="0" lang="es-CO" sz="2400" spc="-1" strike="noStrike">
                <a:solidFill>
                  <a:srgbClr val="002b82"/>
                </a:solidFill>
                <a:latin typeface="Arial"/>
                <a:ea typeface="Arial"/>
              </a:rPr>
              <a:t>hasta por </a:t>
            </a:r>
            <a:r>
              <a:rPr b="1" lang="es-CO" sz="2400" spc="-1" strike="noStrike">
                <a:solidFill>
                  <a:srgbClr val="002b82"/>
                </a:solidFill>
                <a:latin typeface="Arial"/>
                <a:ea typeface="Arial"/>
              </a:rPr>
              <a:t>2000 </a:t>
            </a:r>
            <a:r>
              <a:rPr b="0" lang="es-CO" sz="2400" spc="-1" strike="noStrike">
                <a:solidFill>
                  <a:srgbClr val="002b82"/>
                </a:solidFill>
                <a:latin typeface="Arial"/>
                <a:ea typeface="Arial"/>
              </a:rPr>
              <a:t>SMLMV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43080">
              <a:lnSpc>
                <a:spcPts val="1100"/>
              </a:lnSpc>
              <a:spcBef>
                <a:spcPts val="99"/>
              </a:spcBef>
              <a:tabLst>
                <a:tab algn="l" pos="0"/>
                <a:tab algn="l" pos="353880"/>
                <a:tab algn="l" pos="1744560"/>
                <a:tab algn="l" pos="2403360"/>
                <a:tab algn="l" pos="3952800"/>
                <a:tab algn="l" pos="5699160"/>
                <a:tab algn="l" pos="6159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43080" algn="just">
              <a:lnSpc>
                <a:spcPct val="80000"/>
              </a:lnSpc>
              <a:buClr>
                <a:srgbClr val="002b82"/>
              </a:buClr>
              <a:buFont typeface="Arial"/>
              <a:buChar char="•"/>
              <a:tabLst>
                <a:tab algn="l" pos="353880"/>
                <a:tab algn="l" pos="1744560"/>
                <a:tab algn="l" pos="2403360"/>
                <a:tab algn="l" pos="3952800"/>
                <a:tab algn="l" pos="5699160"/>
                <a:tab algn="l" pos="6159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002b82"/>
                </a:solidFill>
                <a:latin typeface="Arial"/>
                <a:ea typeface="Arial"/>
              </a:rPr>
              <a:t>Suspensión  </a:t>
            </a:r>
            <a:r>
              <a:rPr b="0" lang="es-CO" sz="2400" spc="-1" strike="noStrike">
                <a:solidFill>
                  <a:srgbClr val="002b82"/>
                </a:solidFill>
                <a:latin typeface="Arial"/>
                <a:ea typeface="Arial"/>
              </a:rPr>
              <a:t>de  actividades  relacionadas  con  el tratamiento hasta por </a:t>
            </a:r>
            <a:r>
              <a:rPr b="1" lang="es-CO" sz="2400" spc="-1" strike="noStrike">
                <a:solidFill>
                  <a:srgbClr val="002b82"/>
                </a:solidFill>
                <a:latin typeface="Arial"/>
                <a:ea typeface="Arial"/>
              </a:rPr>
              <a:t>6 meses</a:t>
            </a:r>
            <a:r>
              <a:rPr b="0" lang="es-CO" sz="2400" spc="-1" strike="noStrike">
                <a:solidFill>
                  <a:srgbClr val="002b82"/>
                </a:solidFill>
                <a:latin typeface="Arial"/>
                <a:ea typeface="Arial"/>
              </a:rPr>
              <a:t>. En acto de cierre se indicarán los correctiv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43080">
              <a:lnSpc>
                <a:spcPts val="499"/>
              </a:lnSpc>
              <a:spcBef>
                <a:spcPts val="26"/>
              </a:spcBef>
              <a:buClr>
                <a:srgbClr val="002b82"/>
              </a:buClr>
              <a:buFont typeface="Arial"/>
              <a:buChar char="•"/>
              <a:tabLst>
                <a:tab algn="l" pos="353880"/>
                <a:tab algn="l" pos="1744560"/>
                <a:tab algn="l" pos="2403360"/>
                <a:tab algn="l" pos="3952800"/>
                <a:tab algn="l" pos="5699160"/>
                <a:tab algn="l" pos="6159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55680" indent="-343080">
              <a:lnSpc>
                <a:spcPts val="3285"/>
              </a:lnSpc>
              <a:buClr>
                <a:srgbClr val="002b82"/>
              </a:buClr>
              <a:buFont typeface="Arial"/>
              <a:buChar char="•"/>
              <a:tabLst>
                <a:tab algn="l" pos="353880"/>
                <a:tab algn="l" pos="1744560"/>
                <a:tab algn="l" pos="2403360"/>
                <a:tab algn="l" pos="3952800"/>
                <a:tab algn="l" pos="5699160"/>
                <a:tab algn="l" pos="6159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002b82"/>
                </a:solidFill>
                <a:latin typeface="Arial"/>
                <a:ea typeface="Arial"/>
              </a:rPr>
              <a:t>Cierre temporal </a:t>
            </a:r>
            <a:r>
              <a:rPr b="0" lang="es-CO" sz="2400" spc="-1" strike="noStrike">
                <a:solidFill>
                  <a:srgbClr val="002b82"/>
                </a:solidFill>
                <a:latin typeface="Arial"/>
                <a:ea typeface="Arial"/>
              </a:rPr>
              <a:t>de las operaciones si no se adoptan los correctiv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43080">
              <a:lnSpc>
                <a:spcPts val="1100"/>
              </a:lnSpc>
              <a:spcBef>
                <a:spcPts val="74"/>
              </a:spcBef>
              <a:tabLst>
                <a:tab algn="l" pos="0"/>
                <a:tab algn="l" pos="353880"/>
                <a:tab algn="l" pos="1744560"/>
                <a:tab algn="l" pos="2403360"/>
                <a:tab algn="l" pos="3952800"/>
                <a:tab algn="l" pos="5699160"/>
                <a:tab algn="l" pos="6159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43080" algn="just">
              <a:lnSpc>
                <a:spcPts val="2687"/>
              </a:lnSpc>
              <a:buClr>
                <a:srgbClr val="002b82"/>
              </a:buClr>
              <a:buFont typeface="Arial"/>
              <a:buChar char="•"/>
              <a:tabLst>
                <a:tab algn="l" pos="353880"/>
                <a:tab algn="l" pos="1744560"/>
                <a:tab algn="l" pos="2403360"/>
                <a:tab algn="l" pos="3952800"/>
                <a:tab algn="l" pos="5699160"/>
                <a:tab algn="l" pos="6159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2b82"/>
                </a:solidFill>
                <a:latin typeface="Arial"/>
                <a:ea typeface="Arial"/>
              </a:rPr>
              <a:t>Cierre inmediato y definitivo de la operación que involucre el tratamiento de </a:t>
            </a:r>
            <a:r>
              <a:rPr b="1" lang="es-CO" sz="2400" spc="-1" strike="noStrike">
                <a:solidFill>
                  <a:srgbClr val="002b82"/>
                </a:solidFill>
                <a:latin typeface="Arial"/>
                <a:ea typeface="Arial"/>
              </a:rPr>
              <a:t>datos sensibles</a:t>
            </a:r>
            <a:r>
              <a:rPr b="0" lang="es-CO" sz="2400" spc="-1" strike="noStrike">
                <a:solidFill>
                  <a:srgbClr val="002b82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object 2"/>
          <p:cNvSpPr/>
          <p:nvPr/>
        </p:nvSpPr>
        <p:spPr>
          <a:xfrm>
            <a:off x="536400" y="6407280"/>
            <a:ext cx="5335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800" spc="-1" strike="noStrike">
                <a:solidFill>
                  <a:srgbClr val="ffffff"/>
                </a:solidFill>
                <a:latin typeface="Arial"/>
                <a:ea typeface="Arial"/>
              </a:rPr>
              <a:t>13/12/20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object 3"/>
          <p:cNvSpPr/>
          <p:nvPr/>
        </p:nvSpPr>
        <p:spPr>
          <a:xfrm>
            <a:off x="5759280" y="6407280"/>
            <a:ext cx="82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8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object 4"/>
          <p:cNvSpPr/>
          <p:nvPr/>
        </p:nvSpPr>
        <p:spPr>
          <a:xfrm>
            <a:off x="2347920" y="2897280"/>
            <a:ext cx="47401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4000" spc="-1" strike="noStrike">
                <a:solidFill>
                  <a:srgbClr val="001f5f"/>
                </a:solidFill>
                <a:latin typeface="Arial"/>
                <a:ea typeface="Arial"/>
              </a:rPr>
              <a:t>1. Ley 1581 de 201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693800" y="700200"/>
            <a:ext cx="718344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tIns="340920" bIns="0" anchor="t">
            <a:noAutofit/>
          </a:bodyPr>
          <a:p>
            <a:pPr marL="1114560" indent="0" algn="ct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002b82"/>
                </a:solidFill>
                <a:latin typeface="Arial"/>
                <a:ea typeface="Arial"/>
              </a:rPr>
              <a:t>Registro Nacional de Bases de Datos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40" name="object 7"/>
          <p:cNvSpPr/>
          <p:nvPr/>
        </p:nvSpPr>
        <p:spPr>
          <a:xfrm>
            <a:off x="536400" y="6407280"/>
            <a:ext cx="53352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13/12/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object 8"/>
          <p:cNvSpPr/>
          <p:nvPr/>
        </p:nvSpPr>
        <p:spPr>
          <a:xfrm>
            <a:off x="5689440" y="6407280"/>
            <a:ext cx="163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55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AE3C8-A55B-41A2-885E-AF23E57E0C7B}" type="slidenum">
              <a:rPr b="0" lang="es-CO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object 3"/>
          <p:cNvSpPr/>
          <p:nvPr/>
        </p:nvSpPr>
        <p:spPr>
          <a:xfrm>
            <a:off x="1665360" y="1901880"/>
            <a:ext cx="6729480" cy="10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55680" indent="-343080">
              <a:lnSpc>
                <a:spcPts val="2823"/>
              </a:lnSpc>
              <a:buClr>
                <a:srgbClr val="002b82"/>
              </a:buClr>
              <a:buFont typeface="Arial"/>
              <a:buChar char="•"/>
              <a:tabLst>
                <a:tab algn="l" pos="355680"/>
                <a:tab algn="l" pos="1996920"/>
                <a:tab algn="l" pos="3279600"/>
                <a:tab algn="l" pos="3821040"/>
                <a:tab algn="l" pos="4413240"/>
                <a:tab algn="l" pos="5429160"/>
                <a:tab algn="l" pos="5969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002b82"/>
                </a:solidFill>
                <a:latin typeface="Arial"/>
                <a:ea typeface="Arial"/>
              </a:rPr>
              <a:t>Directorio</a:t>
            </a:r>
            <a:r>
              <a:rPr b="1" lang="es-CO" sz="2400" spc="-1" strike="noStrike">
                <a:solidFill>
                  <a:srgbClr val="002b82"/>
                </a:solidFill>
                <a:latin typeface="Arial"/>
                <a:ea typeface="Arial"/>
              </a:rPr>
              <a:t>	</a:t>
            </a:r>
            <a:r>
              <a:rPr b="1" lang="es-CO" sz="2400" spc="-1" strike="noStrike">
                <a:solidFill>
                  <a:srgbClr val="002b82"/>
                </a:solidFill>
                <a:latin typeface="Arial"/>
                <a:ea typeface="Arial"/>
              </a:rPr>
              <a:t>público</a:t>
            </a:r>
            <a:r>
              <a:rPr b="1" lang="es-CO" sz="2400" spc="-1" strike="noStrike">
                <a:solidFill>
                  <a:srgbClr val="002b82"/>
                </a:solidFill>
                <a:latin typeface="Arial"/>
                <a:ea typeface="Arial"/>
              </a:rPr>
              <a:t>	</a:t>
            </a:r>
            <a:r>
              <a:rPr b="0" lang="es-CO" sz="2400" spc="-1" strike="noStrike">
                <a:solidFill>
                  <a:srgbClr val="002b82"/>
                </a:solidFill>
                <a:latin typeface="Arial"/>
                <a:ea typeface="Arial"/>
              </a:rPr>
              <a:t>de</a:t>
            </a:r>
            <a:r>
              <a:rPr b="0" lang="es-CO" sz="2400" spc="-1" strike="noStrike">
                <a:solidFill>
                  <a:srgbClr val="002b82"/>
                </a:solidFill>
                <a:latin typeface="Arial"/>
                <a:ea typeface="Arial"/>
              </a:rPr>
              <a:t>	</a:t>
            </a:r>
            <a:r>
              <a:rPr b="0" lang="es-CO" sz="2400" spc="-1" strike="noStrike">
                <a:solidFill>
                  <a:srgbClr val="002b82"/>
                </a:solidFill>
                <a:latin typeface="Arial"/>
                <a:ea typeface="Arial"/>
              </a:rPr>
              <a:t>las</a:t>
            </a:r>
            <a:r>
              <a:rPr b="0" lang="es-CO" sz="2400" spc="-1" strike="noStrike">
                <a:solidFill>
                  <a:srgbClr val="002b82"/>
                </a:solidFill>
                <a:latin typeface="Arial"/>
                <a:ea typeface="Arial"/>
              </a:rPr>
              <a:t>	</a:t>
            </a:r>
            <a:r>
              <a:rPr b="0" lang="es-CO" sz="2400" spc="-1" strike="noStrike">
                <a:solidFill>
                  <a:srgbClr val="002b82"/>
                </a:solidFill>
                <a:latin typeface="Arial"/>
                <a:ea typeface="Arial"/>
              </a:rPr>
              <a:t>bases</a:t>
            </a:r>
            <a:r>
              <a:rPr b="0" lang="es-CO" sz="2400" spc="-1" strike="noStrike">
                <a:solidFill>
                  <a:srgbClr val="002b82"/>
                </a:solidFill>
                <a:latin typeface="Arial"/>
                <a:ea typeface="Arial"/>
              </a:rPr>
              <a:t>	</a:t>
            </a:r>
            <a:r>
              <a:rPr b="0" lang="es-CO" sz="2400" spc="-1" strike="noStrike">
                <a:solidFill>
                  <a:srgbClr val="002b82"/>
                </a:solidFill>
                <a:latin typeface="Arial"/>
                <a:ea typeface="Arial"/>
              </a:rPr>
              <a:t>de</a:t>
            </a:r>
            <a:r>
              <a:rPr b="0" lang="es-CO" sz="2400" spc="-1" strike="noStrike">
                <a:solidFill>
                  <a:srgbClr val="002b82"/>
                </a:solidFill>
                <a:latin typeface="Arial"/>
                <a:ea typeface="Arial"/>
              </a:rPr>
              <a:t>	</a:t>
            </a:r>
            <a:r>
              <a:rPr b="0" lang="es-CO" sz="2400" spc="-1" strike="noStrike">
                <a:solidFill>
                  <a:srgbClr val="002b82"/>
                </a:solidFill>
                <a:latin typeface="Arial"/>
                <a:ea typeface="Arial"/>
              </a:rPr>
              <a:t>datos sujetas a Tratamiento que operan en el paí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object 5"/>
          <p:cNvSpPr/>
          <p:nvPr/>
        </p:nvSpPr>
        <p:spPr>
          <a:xfrm>
            <a:off x="1660680" y="2924280"/>
            <a:ext cx="6935760" cy="29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55680" indent="-343080">
              <a:buClr>
                <a:srgbClr val="002b82"/>
              </a:buClr>
              <a:buFont typeface="Arial"/>
              <a:buChar char="•"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2b82"/>
                </a:solidFill>
                <a:latin typeface="Arial"/>
                <a:ea typeface="Arial"/>
              </a:rPr>
              <a:t>Permitirá conoc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12760" indent="-185760">
              <a:lnSpc>
                <a:spcPct val="100000"/>
              </a:lnSpc>
              <a:spcBef>
                <a:spcPts val="26"/>
              </a:spcBef>
              <a:buClr>
                <a:srgbClr val="002b82"/>
              </a:buClr>
              <a:buFont typeface="Arial"/>
              <a:buChar char="-"/>
              <a:tabLst>
                <a:tab algn="l" pos="3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002b82"/>
                </a:solidFill>
                <a:latin typeface="Arial"/>
                <a:ea typeface="Arial"/>
              </a:rPr>
              <a:t>Realidad </a:t>
            </a:r>
            <a:r>
              <a:rPr b="0" lang="es-CO" sz="2400" spc="-1" strike="noStrike">
                <a:solidFill>
                  <a:srgbClr val="002b82"/>
                </a:solidFill>
                <a:latin typeface="Arial"/>
                <a:ea typeface="Arial"/>
              </a:rPr>
              <a:t>de las bases de datos del paí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12760" indent="-185760">
              <a:lnSpc>
                <a:spcPct val="100000"/>
              </a:lnSpc>
              <a:spcBef>
                <a:spcPts val="26"/>
              </a:spcBef>
              <a:buClr>
                <a:srgbClr val="002b82"/>
              </a:buClr>
              <a:buFont typeface="Arial"/>
              <a:buChar char="-"/>
              <a:tabLst>
                <a:tab algn="l" pos="3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002b82"/>
                </a:solidFill>
                <a:latin typeface="Arial"/>
                <a:ea typeface="Arial"/>
              </a:rPr>
              <a:t>Flujo </a:t>
            </a:r>
            <a:r>
              <a:rPr b="0" lang="es-CO" sz="2400" spc="-1" strike="noStrike">
                <a:solidFill>
                  <a:srgbClr val="002b82"/>
                </a:solidFill>
                <a:latin typeface="Arial"/>
                <a:ea typeface="Arial"/>
              </a:rPr>
              <a:t>y tipo de da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12760" indent="-185760">
              <a:lnSpc>
                <a:spcPct val="100000"/>
              </a:lnSpc>
              <a:spcBef>
                <a:spcPts val="26"/>
              </a:spcBef>
              <a:buClr>
                <a:srgbClr val="002b82"/>
              </a:buClr>
              <a:buFont typeface="Arial"/>
              <a:buChar char="-"/>
              <a:tabLst>
                <a:tab algn="l" pos="3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002b82"/>
                </a:solidFill>
                <a:latin typeface="Arial"/>
                <a:ea typeface="Arial"/>
              </a:rPr>
              <a:t>Quién o quiénes </a:t>
            </a:r>
            <a:r>
              <a:rPr b="0" lang="es-CO" sz="2400" spc="-1" strike="noStrike">
                <a:solidFill>
                  <a:srgbClr val="002b82"/>
                </a:solidFill>
                <a:latin typeface="Arial"/>
                <a:ea typeface="Arial"/>
              </a:rPr>
              <a:t>adelantan su tratami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12760" indent="-185760">
              <a:lnSpc>
                <a:spcPct val="100000"/>
              </a:lnSpc>
              <a:spcBef>
                <a:spcPts val="26"/>
              </a:spcBef>
              <a:buClr>
                <a:srgbClr val="002b82"/>
              </a:buClr>
              <a:buFont typeface="Arial"/>
              <a:buChar char="-"/>
              <a:tabLst>
                <a:tab algn="l" pos="3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002b82"/>
                </a:solidFill>
                <a:latin typeface="Arial"/>
                <a:ea typeface="Arial"/>
              </a:rPr>
              <a:t>Finalidad </a:t>
            </a:r>
            <a:r>
              <a:rPr b="0" lang="es-CO" sz="2400" spc="-1" strike="noStrike">
                <a:solidFill>
                  <a:srgbClr val="002b82"/>
                </a:solidFill>
                <a:latin typeface="Arial"/>
                <a:ea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12760" indent="-185760">
              <a:lnSpc>
                <a:spcPct val="100000"/>
              </a:lnSpc>
              <a:spcBef>
                <a:spcPts val="26"/>
              </a:spcBef>
              <a:buClr>
                <a:srgbClr val="002b82"/>
              </a:buClr>
              <a:buFont typeface="Arial"/>
              <a:buChar char="-"/>
              <a:tabLst>
                <a:tab algn="l" pos="3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002b82"/>
                </a:solidFill>
                <a:latin typeface="Arial"/>
                <a:ea typeface="Arial"/>
              </a:rPr>
              <a:t>Políticas </a:t>
            </a:r>
            <a:r>
              <a:rPr b="0" lang="es-CO" sz="2400" spc="-1" strike="noStrike">
                <a:solidFill>
                  <a:srgbClr val="002b82"/>
                </a:solidFill>
                <a:latin typeface="Arial"/>
                <a:ea typeface="Arial"/>
              </a:rPr>
              <a:t>de tratami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12760" indent="-185760">
              <a:lnSpc>
                <a:spcPts val="899"/>
              </a:lnSpc>
              <a:spcBef>
                <a:spcPts val="26"/>
              </a:spcBef>
              <a:buClr>
                <a:srgbClr val="002b82"/>
              </a:buClr>
              <a:buFont typeface="Arial"/>
              <a:buChar char="-"/>
              <a:tabLst>
                <a:tab algn="l" pos="3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12760" indent="-185760">
              <a:lnSpc>
                <a:spcPts val="998"/>
              </a:lnSpc>
              <a:buClr>
                <a:srgbClr val="002b82"/>
              </a:buClr>
              <a:buFont typeface="Arial"/>
              <a:buChar char="-"/>
              <a:tabLst>
                <a:tab algn="l" pos="3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1112760" indent="-185760">
              <a:lnSpc>
                <a:spcPts val="998"/>
              </a:lnSpc>
              <a:buClr>
                <a:srgbClr val="002b82"/>
              </a:buClr>
              <a:buFont typeface="Arial"/>
              <a:buChar char="-"/>
              <a:tabLst>
                <a:tab algn="l" pos="3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43080">
              <a:buClr>
                <a:srgbClr val="002b82"/>
              </a:buClr>
              <a:buFont typeface="Arial"/>
              <a:buChar char="•"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2b82"/>
                </a:solidFill>
                <a:latin typeface="Arial"/>
                <a:ea typeface="Arial"/>
              </a:rPr>
              <a:t>Sujeto a </a:t>
            </a:r>
            <a:r>
              <a:rPr b="1" lang="es-CO" sz="2400" spc="-1" strike="noStrike">
                <a:solidFill>
                  <a:srgbClr val="002b82"/>
                </a:solidFill>
                <a:latin typeface="Arial"/>
                <a:ea typeface="Arial"/>
              </a:rPr>
              <a:t>reglament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600200" y="826560"/>
            <a:ext cx="7184880" cy="939960"/>
          </a:xfrm>
          <a:prstGeom prst="rect">
            <a:avLst/>
          </a:prstGeom>
          <a:noFill/>
          <a:ln w="0">
            <a:noFill/>
          </a:ln>
        </p:spPr>
        <p:txBody>
          <a:bodyPr lIns="0" rIns="0" tIns="343080" bIns="0" anchor="t">
            <a:noAutofit/>
          </a:bodyPr>
          <a:p>
            <a:pPr marL="89532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002b82"/>
                </a:solidFill>
                <a:latin typeface="Arial"/>
                <a:ea typeface="Arial"/>
              </a:rPr>
              <a:t>Transferencia de datos a terceros países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45" name="object 8"/>
          <p:cNvSpPr/>
          <p:nvPr/>
        </p:nvSpPr>
        <p:spPr>
          <a:xfrm>
            <a:off x="536400" y="6407280"/>
            <a:ext cx="53352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13/12/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object 9"/>
          <p:cNvSpPr/>
          <p:nvPr/>
        </p:nvSpPr>
        <p:spPr>
          <a:xfrm>
            <a:off x="5689440" y="6407280"/>
            <a:ext cx="163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55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BCBD0-CE5B-461B-9F42-DD0234AEF2FD}" type="slidenum">
              <a:rPr b="0" lang="es-CO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9"/>
          <p:cNvSpPr/>
          <p:nvPr/>
        </p:nvSpPr>
        <p:spPr>
          <a:xfrm>
            <a:off x="1828800" y="1697040"/>
            <a:ext cx="7104240" cy="411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2b82"/>
                </a:solidFill>
                <a:latin typeface="Arial"/>
              </a:rPr>
              <a:t>Se prohíbe la transferencia a países que no proporcionen niveles de seguridad adecuados de protecció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2b8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2b82"/>
                </a:solidFill>
                <a:latin typeface="Arial"/>
              </a:rPr>
              <a:t>La SIC fijará los estándares para definir cuándo un país ofrece un nivel adecuado de protección, acorde con la le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2b8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2b82"/>
                </a:solidFill>
                <a:latin typeface="Arial"/>
              </a:rPr>
              <a:t>Exclusiones: - Titular haya otorgado autorización expresa e inequívoca - Intercambio de datos médicos por razones de salud e higiene pública - Transferencias bancarias o bursátil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600200" y="762120"/>
            <a:ext cx="7184880" cy="938160"/>
          </a:xfrm>
          <a:prstGeom prst="rect">
            <a:avLst/>
          </a:prstGeom>
          <a:noFill/>
          <a:ln w="0">
            <a:noFill/>
          </a:ln>
        </p:spPr>
        <p:txBody>
          <a:bodyPr lIns="0" rIns="0" tIns="343080" bIns="0" anchor="t">
            <a:noAutofit/>
          </a:bodyPr>
          <a:p>
            <a:pPr marL="6652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002b82"/>
                </a:solidFill>
                <a:latin typeface="Arial"/>
                <a:ea typeface="Arial"/>
              </a:rPr>
              <a:t>Transferencia de datos a terceros países (II)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49" name="object 16"/>
          <p:cNvSpPr/>
          <p:nvPr/>
        </p:nvSpPr>
        <p:spPr>
          <a:xfrm>
            <a:off x="536400" y="6407280"/>
            <a:ext cx="53352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13/12/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object 17"/>
          <p:cNvSpPr/>
          <p:nvPr/>
        </p:nvSpPr>
        <p:spPr>
          <a:xfrm>
            <a:off x="5689440" y="6407280"/>
            <a:ext cx="163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55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64616-5A5A-4CE5-AD88-5B374E843C20}" type="slidenum">
              <a:rPr b="0" lang="es-CO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17"/>
          <p:cNvSpPr/>
          <p:nvPr/>
        </p:nvSpPr>
        <p:spPr>
          <a:xfrm>
            <a:off x="1752480" y="1700280"/>
            <a:ext cx="71805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2b82"/>
                </a:solidFill>
                <a:latin typeface="Arial"/>
              </a:rPr>
              <a:t>Exclusion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2b8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2b82"/>
                </a:solidFill>
                <a:latin typeface="Arial"/>
              </a:rPr>
              <a:t>Transferencias acordadas en el marco de tratados internacionales, bajo el principio de reciproc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2b8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2b82"/>
                </a:solidFill>
                <a:latin typeface="Arial"/>
              </a:rPr>
              <a:t>Transferencias necesarias para la ejecución de un contrato entre el Titular y el responsable o para la ejecución de medidas precontractuales, previa autorización del Tit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2b8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2b82"/>
                </a:solidFill>
                <a:latin typeface="Arial"/>
              </a:rPr>
              <a:t>Transferencias legalmente exigidas para la salvaguardia del interés público o el reconocimiento, ejercicio o defensa de un derecho en un proceso judici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600200" y="732960"/>
            <a:ext cx="7184880" cy="939960"/>
          </a:xfrm>
          <a:prstGeom prst="rect">
            <a:avLst/>
          </a:prstGeom>
          <a:noFill/>
          <a:ln w="0">
            <a:noFill/>
          </a:ln>
        </p:spPr>
        <p:txBody>
          <a:bodyPr lIns="0" rIns="0" tIns="484920" bIns="0" anchor="t">
            <a:noAutofit/>
          </a:bodyPr>
          <a:p>
            <a:pPr marL="841320" indent="0" algn="ctr">
              <a:lnSpc>
                <a:spcPts val="3325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800" spc="-1" strike="noStrike">
                <a:solidFill>
                  <a:srgbClr val="002b82"/>
                </a:solidFill>
                <a:latin typeface="Arial"/>
                <a:ea typeface="Arial"/>
              </a:rPr>
              <a:t>Normas corporativas vinculantes</a:t>
            </a:r>
            <a:endParaRPr b="0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53" name="object 8"/>
          <p:cNvSpPr/>
          <p:nvPr/>
        </p:nvSpPr>
        <p:spPr>
          <a:xfrm>
            <a:off x="536400" y="6407280"/>
            <a:ext cx="53352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13/12/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object 9"/>
          <p:cNvSpPr/>
          <p:nvPr/>
        </p:nvSpPr>
        <p:spPr>
          <a:xfrm>
            <a:off x="5689440" y="6407280"/>
            <a:ext cx="163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55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10752-E04E-4CBB-AB8C-AED50FFAE53D}" type="slidenum">
              <a:rPr b="0" lang="es-CO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9"/>
          <p:cNvSpPr/>
          <p:nvPr/>
        </p:nvSpPr>
        <p:spPr>
          <a:xfrm>
            <a:off x="1752480" y="2147760"/>
            <a:ext cx="71805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2b8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2b82"/>
                </a:solidFill>
                <a:latin typeface="Arial"/>
              </a:rPr>
              <a:t>Corresponde al Gobierno Nacional expedir la reglamentación sobre Normas Corporativas Vinculantes para la </a:t>
            </a:r>
            <a:r>
              <a:rPr b="1" lang="es-CO" sz="2400" spc="-1" strike="noStrike">
                <a:solidFill>
                  <a:srgbClr val="002b82"/>
                </a:solidFill>
                <a:latin typeface="Arial"/>
              </a:rPr>
              <a:t>certificación de buenas practicas </a:t>
            </a:r>
            <a:r>
              <a:rPr b="0" lang="es-CO" sz="2400" spc="-1" strike="noStrike">
                <a:solidFill>
                  <a:srgbClr val="002b82"/>
                </a:solidFill>
                <a:latin typeface="Arial"/>
              </a:rPr>
              <a:t>en protección de datos personales y su transferencia a terceros país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2b8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2b82"/>
                </a:solidFill>
                <a:latin typeface="Arial"/>
              </a:rPr>
              <a:t>Se prevé la posibilidad de que existan entes certificadores de buenas prácticas acreditados ante el Organismo Nacional de Acreditación (ONAC) y que serían controlados por la Superintendencia de Industria y Comerci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object 2"/>
          <p:cNvSpPr/>
          <p:nvPr/>
        </p:nvSpPr>
        <p:spPr>
          <a:xfrm>
            <a:off x="2743200" y="1449360"/>
            <a:ext cx="53341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600" spc="-1" strike="noStrike">
                <a:solidFill>
                  <a:srgbClr val="002b82"/>
                </a:solidFill>
                <a:latin typeface="Arial"/>
                <a:ea typeface="Arial"/>
              </a:rPr>
              <a:t>Régimen de transi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object 5"/>
          <p:cNvSpPr/>
          <p:nvPr/>
        </p:nvSpPr>
        <p:spPr>
          <a:xfrm>
            <a:off x="536400" y="6407280"/>
            <a:ext cx="53352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13/12/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object 6"/>
          <p:cNvSpPr/>
          <p:nvPr/>
        </p:nvSpPr>
        <p:spPr>
          <a:xfrm>
            <a:off x="5689440" y="6407280"/>
            <a:ext cx="163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55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682EB-6D4E-4980-9EA2-3B931C9FCDC4}" type="slidenum">
              <a:rPr b="0" lang="es-CO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object 3"/>
          <p:cNvSpPr/>
          <p:nvPr/>
        </p:nvSpPr>
        <p:spPr>
          <a:xfrm>
            <a:off x="2133720" y="2971800"/>
            <a:ext cx="6537240" cy="26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 algn="just">
              <a:lnSpc>
                <a:spcPct val="8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000" spc="-1" strike="noStrike">
                <a:solidFill>
                  <a:srgbClr val="002b82"/>
                </a:solidFill>
                <a:latin typeface="Arial"/>
                <a:ea typeface="Arial"/>
              </a:rPr>
              <a:t>Se  prevé  un  plazo  de  </a:t>
            </a:r>
            <a:r>
              <a:rPr b="1" lang="es-CO" sz="5400" spc="-1" strike="noStrike">
                <a:solidFill>
                  <a:srgbClr val="002b82"/>
                </a:solidFill>
                <a:latin typeface="Arial"/>
                <a:ea typeface="Arial"/>
              </a:rPr>
              <a:t>6 </a:t>
            </a:r>
            <a:r>
              <a:rPr b="0" lang="es-CO" sz="4000" spc="-1" strike="noStrike">
                <a:solidFill>
                  <a:srgbClr val="002b82"/>
                </a:solidFill>
                <a:latin typeface="Arial"/>
                <a:ea typeface="Arial"/>
              </a:rPr>
              <a:t>meses para </a:t>
            </a:r>
            <a:r>
              <a:rPr b="1" lang="es-CO" sz="4000" spc="-1" strike="noStrike">
                <a:solidFill>
                  <a:srgbClr val="002b82"/>
                </a:solidFill>
                <a:latin typeface="Arial"/>
                <a:ea typeface="Arial"/>
              </a:rPr>
              <a:t>adecuar su funcionamiento </a:t>
            </a:r>
            <a:r>
              <a:rPr b="0" lang="es-CO" sz="4000" spc="-1" strike="noStrike">
                <a:solidFill>
                  <a:srgbClr val="002b82"/>
                </a:solidFill>
                <a:latin typeface="Arial"/>
                <a:ea typeface="Arial"/>
              </a:rPr>
              <a:t>a  las  disposiciones  contempladas en la le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object 4"/>
          <p:cNvSpPr/>
          <p:nvPr/>
        </p:nvSpPr>
        <p:spPr>
          <a:xfrm>
            <a:off x="5514840" y="230040"/>
            <a:ext cx="34894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439439"/>
                </a:solidFill>
                <a:latin typeface="Arial"/>
                <a:ea typeface="Arial"/>
              </a:rPr>
              <a:t>Delegatura para la Protección de Datos Person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object 2"/>
          <p:cNvSpPr/>
          <p:nvPr/>
        </p:nvSpPr>
        <p:spPr>
          <a:xfrm>
            <a:off x="1752480" y="1447920"/>
            <a:ext cx="7162920" cy="458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002b82"/>
                </a:solidFill>
                <a:latin typeface="Arial"/>
                <a:ea typeface="Arial"/>
              </a:rPr>
              <a:t>Ley 1581 de 2012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600"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2600">
              <a:buClr>
                <a:srgbClr val="002b8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2b82"/>
                </a:solidFill>
                <a:latin typeface="Arial"/>
                <a:ea typeface="Arial"/>
              </a:rPr>
              <a:t>Adelantar </a:t>
            </a:r>
            <a:r>
              <a:rPr b="1" lang="es-CO" sz="2000" spc="-1" strike="noStrike">
                <a:solidFill>
                  <a:srgbClr val="002b82"/>
                </a:solidFill>
                <a:latin typeface="Arial"/>
                <a:ea typeface="Arial"/>
              </a:rPr>
              <a:t>investigaciones </a:t>
            </a:r>
            <a:r>
              <a:rPr b="0" lang="es-CO" sz="2000" spc="-1" strike="noStrike">
                <a:solidFill>
                  <a:srgbClr val="002b82"/>
                </a:solidFill>
                <a:latin typeface="Arial"/>
                <a:ea typeface="Arial"/>
              </a:rPr>
              <a:t>de oficio o a petición de parte, </a:t>
            </a:r>
            <a:r>
              <a:rPr b="1" lang="es-CO" sz="2000" spc="-1" strike="noStrike">
                <a:solidFill>
                  <a:srgbClr val="002b82"/>
                </a:solidFill>
                <a:latin typeface="Arial"/>
                <a:ea typeface="Arial"/>
              </a:rPr>
              <a:t>impartir órdenes </a:t>
            </a:r>
            <a:r>
              <a:rPr b="0" lang="es-CO" sz="2000" spc="-1" strike="noStrike">
                <a:solidFill>
                  <a:srgbClr val="002b82"/>
                </a:solidFill>
                <a:latin typeface="Arial"/>
                <a:ea typeface="Arial"/>
              </a:rPr>
              <a:t>de acceso, rectificación, actualización y/o supresión de dat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600">
              <a:lnSpc>
                <a:spcPts val="598"/>
              </a:lnSpc>
              <a:buClr>
                <a:srgbClr val="002b8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12600">
              <a:buClr>
                <a:srgbClr val="002b8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2b82"/>
                </a:solidFill>
                <a:latin typeface="Arial"/>
                <a:ea typeface="Arial"/>
              </a:rPr>
              <a:t>Disponer el </a:t>
            </a:r>
            <a:r>
              <a:rPr b="1" lang="es-CO" sz="2000" spc="-1" strike="noStrike">
                <a:solidFill>
                  <a:srgbClr val="002b82"/>
                </a:solidFill>
                <a:latin typeface="Arial"/>
                <a:ea typeface="Arial"/>
              </a:rPr>
              <a:t>bloqueo temporal </a:t>
            </a:r>
            <a:r>
              <a:rPr b="0" lang="es-CO" sz="2000" spc="-1" strike="noStrike">
                <a:solidFill>
                  <a:srgbClr val="002b82"/>
                </a:solidFill>
                <a:latin typeface="Arial"/>
                <a:ea typeface="Arial"/>
              </a:rPr>
              <a:t>de datos por riesgo de violación 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2b82"/>
                </a:solidFill>
                <a:latin typeface="Arial"/>
                <a:ea typeface="Arial"/>
              </a:rPr>
              <a:t>derechos fundamenta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600">
              <a:lnSpc>
                <a:spcPts val="5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12600">
              <a:buClr>
                <a:srgbClr val="002b8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002b82"/>
                </a:solidFill>
                <a:latin typeface="Arial"/>
                <a:ea typeface="Arial"/>
              </a:rPr>
              <a:t>Promover y divulgar </a:t>
            </a:r>
            <a:r>
              <a:rPr b="0" lang="es-CO" sz="2000" spc="-1" strike="noStrike">
                <a:solidFill>
                  <a:srgbClr val="002b82"/>
                </a:solidFill>
                <a:latin typeface="Arial"/>
                <a:ea typeface="Arial"/>
              </a:rPr>
              <a:t>derechos de los titular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600">
              <a:lnSpc>
                <a:spcPts val="598"/>
              </a:lnSpc>
              <a:buClr>
                <a:srgbClr val="002b8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12600">
              <a:buClr>
                <a:srgbClr val="002b8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2b82"/>
                </a:solidFill>
                <a:latin typeface="Arial"/>
                <a:ea typeface="Arial"/>
              </a:rPr>
              <a:t>Impartir </a:t>
            </a:r>
            <a:r>
              <a:rPr b="1" lang="es-CO" sz="2000" spc="-1" strike="noStrike">
                <a:solidFill>
                  <a:srgbClr val="002b82"/>
                </a:solidFill>
                <a:latin typeface="Arial"/>
                <a:ea typeface="Arial"/>
              </a:rPr>
              <a:t>instrucciones</a:t>
            </a:r>
            <a:r>
              <a:rPr b="0" lang="es-CO" sz="2000" spc="-1" strike="noStrike">
                <a:solidFill>
                  <a:srgbClr val="002b82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600">
              <a:lnSpc>
                <a:spcPts val="598"/>
              </a:lnSpc>
              <a:buClr>
                <a:srgbClr val="002b8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12600">
              <a:buClr>
                <a:srgbClr val="002b8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2b82"/>
                </a:solidFill>
                <a:latin typeface="Arial"/>
                <a:ea typeface="Arial"/>
              </a:rPr>
              <a:t>Proferir </a:t>
            </a:r>
            <a:r>
              <a:rPr b="1" lang="es-CO" sz="2000" spc="-1" strike="noStrike">
                <a:solidFill>
                  <a:srgbClr val="002b82"/>
                </a:solidFill>
                <a:latin typeface="Arial"/>
                <a:ea typeface="Arial"/>
              </a:rPr>
              <a:t>declaraciones de conformidad </a:t>
            </a:r>
            <a:r>
              <a:rPr b="0" lang="es-CO" sz="2000" spc="-1" strike="noStrike">
                <a:solidFill>
                  <a:srgbClr val="002b82"/>
                </a:solidFill>
                <a:latin typeface="Arial"/>
                <a:ea typeface="Arial"/>
              </a:rPr>
              <a:t>sobre transferencias internaciona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600">
              <a:lnSpc>
                <a:spcPts val="55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12600">
              <a:buClr>
                <a:srgbClr val="002b8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2b82"/>
                </a:solidFill>
                <a:latin typeface="Arial"/>
                <a:ea typeface="Arial"/>
              </a:rPr>
              <a:t>Administrar el </a:t>
            </a:r>
            <a:r>
              <a:rPr b="1" lang="es-CO" sz="2000" spc="-1" strike="noStrike">
                <a:solidFill>
                  <a:srgbClr val="002b82"/>
                </a:solidFill>
                <a:latin typeface="Arial"/>
                <a:ea typeface="Arial"/>
              </a:rPr>
              <a:t>RNBD</a:t>
            </a:r>
            <a:r>
              <a:rPr b="0" lang="es-CO" sz="2000" spc="-1" strike="noStrike">
                <a:solidFill>
                  <a:srgbClr val="002b82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600">
              <a:lnSpc>
                <a:spcPts val="598"/>
              </a:lnSpc>
              <a:buClr>
                <a:srgbClr val="002b8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12600">
              <a:buClr>
                <a:srgbClr val="002b8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2b82"/>
                </a:solidFill>
                <a:latin typeface="Arial"/>
                <a:ea typeface="Arial"/>
              </a:rPr>
              <a:t>Requerir </a:t>
            </a:r>
            <a:r>
              <a:rPr b="1" lang="es-CO" sz="2000" spc="-1" strike="noStrike">
                <a:solidFill>
                  <a:srgbClr val="002b82"/>
                </a:solidFill>
                <a:latin typeface="Arial"/>
                <a:ea typeface="Arial"/>
              </a:rPr>
              <a:t>colaboración </a:t>
            </a:r>
            <a:r>
              <a:rPr b="0" lang="es-CO" sz="2000" spc="-1" strike="noStrike">
                <a:solidFill>
                  <a:srgbClr val="002b82"/>
                </a:solidFill>
                <a:latin typeface="Arial"/>
                <a:ea typeface="Arial"/>
              </a:rPr>
              <a:t>de entidades internaciona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object 5"/>
          <p:cNvSpPr/>
          <p:nvPr/>
        </p:nvSpPr>
        <p:spPr>
          <a:xfrm>
            <a:off x="536400" y="6407280"/>
            <a:ext cx="53352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13/12/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object 6"/>
          <p:cNvSpPr/>
          <p:nvPr/>
        </p:nvSpPr>
        <p:spPr>
          <a:xfrm>
            <a:off x="5689440" y="6407280"/>
            <a:ext cx="163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55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C4B03-D45E-4F5D-A6FF-455EBC4C31B6}" type="slidenum">
              <a:rPr b="0" lang="es-CO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185240" cy="938160"/>
          </a:xfrm>
          <a:prstGeom prst="rect">
            <a:avLst/>
          </a:prstGeom>
          <a:noFill/>
          <a:ln w="0">
            <a:noFill/>
          </a:ln>
        </p:spPr>
        <p:txBody>
          <a:bodyPr lIns="0" rIns="0" tIns="216000" bIns="0" anchor="t">
            <a:noAutofit/>
          </a:bodyPr>
          <a:p>
            <a:pPr marL="2081160" indent="0" algn="ctr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800" spc="-1" strike="noStrike">
                <a:solidFill>
                  <a:srgbClr val="002b82"/>
                </a:solidFill>
                <a:latin typeface="Arial"/>
                <a:ea typeface="Arial"/>
              </a:rPr>
              <a:t>Funciones de la SIC</a:t>
            </a:r>
            <a:endParaRPr b="0" lang="en-US" sz="28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/>
          </p:nvPr>
        </p:nvSpPr>
        <p:spPr>
          <a:xfrm>
            <a:off x="1600200" y="870120"/>
            <a:ext cx="7075440" cy="73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1f497d"/>
                </a:solidFill>
                <a:latin typeface="Calibri"/>
              </a:rPr>
              <a:t>LITERAL ADICIONADO EN CLAUSULA DEL CONTRATO LABOR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Text Box 4"/>
          <p:cNvSpPr/>
          <p:nvPr/>
        </p:nvSpPr>
        <p:spPr>
          <a:xfrm>
            <a:off x="1600200" y="1752480"/>
            <a:ext cx="7238880" cy="488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900" spc="-1" strike="noStrike">
                <a:solidFill>
                  <a:srgbClr val="1f497d"/>
                </a:solidFill>
                <a:latin typeface="Arial"/>
              </a:rPr>
              <a:t>Dentro de la cláusula de obligaciones del contrato laboral, se realiza las siguientes adiciones (otro si)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88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900" spc="-1" strike="noStrike">
                <a:solidFill>
                  <a:srgbClr val="1f497d"/>
                </a:solidFill>
                <a:latin typeface="Arial"/>
              </a:rPr>
              <a:t>Cumplir con los lineamientos establecidos en la Política de Administración de los Sistemas de Información (IT-PCS-PD-02), la cual se encuentra en la Intranet del Colegio;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88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9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0" lang="es-CO" sz="1900" spc="-1" strike="noStrike">
                <a:solidFill>
                  <a:srgbClr val="1f497d"/>
                </a:solidFill>
                <a:latin typeface="Arial"/>
              </a:rPr>
              <a:t>Guardar estricta confidencialidad sobre la información y datos de los miembros de la Comunidad Educativa que sean de su conocimiento por motivo de sus funciones y/o responsabilidad definidas en el perfil del cargo, tal y como lo establece la Ley 1581 de 2012 para la protección de datos personales. En caso de infracción a esta confidencialidad es acreedor del pago de los daños y perjuicios causados a la Corporación Colegio Colombo Británico, sin perjuicio de las acciones penales, labores y disciplinarias que pudieran corresponder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object 2"/>
          <p:cNvSpPr/>
          <p:nvPr/>
        </p:nvSpPr>
        <p:spPr>
          <a:xfrm>
            <a:off x="3508200" y="2593800"/>
            <a:ext cx="22622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4800" spc="-1" strike="noStrike">
                <a:solidFill>
                  <a:srgbClr val="002b82"/>
                </a:solidFill>
                <a:latin typeface="Arial"/>
                <a:ea typeface="Arial"/>
              </a:rPr>
              <a:t>Gracia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object 3"/>
          <p:cNvSpPr/>
          <p:nvPr/>
        </p:nvSpPr>
        <p:spPr>
          <a:xfrm>
            <a:off x="536400" y="6407280"/>
            <a:ext cx="5335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800" spc="-1" strike="noStrike">
                <a:solidFill>
                  <a:srgbClr val="ffffff"/>
                </a:solidFill>
                <a:latin typeface="Arial"/>
                <a:ea typeface="Arial"/>
              </a:rPr>
              <a:t>13/12/20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object 4"/>
          <p:cNvSpPr/>
          <p:nvPr/>
        </p:nvSpPr>
        <p:spPr>
          <a:xfrm>
            <a:off x="5689440" y="6407280"/>
            <a:ext cx="163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55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8E26E-D9A7-4A8B-BDE1-BCF29C7B0651}" type="slidenum">
              <a:rPr b="0" lang="es-CO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object 2"/>
          <p:cNvSpPr/>
          <p:nvPr/>
        </p:nvSpPr>
        <p:spPr>
          <a:xfrm>
            <a:off x="2922480" y="1143000"/>
            <a:ext cx="4641840" cy="42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ts val="332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800" spc="-1" strike="noStrike">
                <a:solidFill>
                  <a:srgbClr val="002b82"/>
                </a:solidFill>
                <a:latin typeface="Arial"/>
                <a:ea typeface="Arial"/>
              </a:rPr>
              <a:t>MARCO CONSTITUC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object 3"/>
          <p:cNvSpPr/>
          <p:nvPr/>
        </p:nvSpPr>
        <p:spPr>
          <a:xfrm>
            <a:off x="1704960" y="1981080"/>
            <a:ext cx="7286760" cy="36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2b82"/>
                </a:solidFill>
                <a:latin typeface="Arial"/>
                <a:ea typeface="Arial"/>
              </a:rPr>
              <a:t>Artículo 15 de la Constitución Polític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600"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2600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6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O" sz="2000" spc="-1" strike="noStrike">
                <a:solidFill>
                  <a:srgbClr val="002b82"/>
                </a:solidFill>
                <a:latin typeface="Arial"/>
                <a:ea typeface="Arial"/>
              </a:rPr>
              <a:t>“</a:t>
            </a:r>
            <a:r>
              <a:rPr b="0" i="1" lang="es-CO" sz="2000" spc="-1" strike="noStrike">
                <a:solidFill>
                  <a:srgbClr val="002b82"/>
                </a:solidFill>
                <a:latin typeface="Arial"/>
                <a:ea typeface="Arial"/>
              </a:rPr>
              <a:t>Todas las personas tienen derecho a su intimidad personal y familiar y a su buen nombre, y el Estado debe respetarlos y hacerlos respetar. De igual   modo,   tienen   derecho   a   conocer,   actualizar   y   rectificar   las informaciones que se hayan recogido sobre ellas en bancos de datos y en archivos de entidades públicas y privadas”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600"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2600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6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O" sz="2000" spc="-1" strike="noStrike">
                <a:solidFill>
                  <a:srgbClr val="002b82"/>
                </a:solidFill>
                <a:latin typeface="Arial"/>
                <a:ea typeface="Arial"/>
              </a:rPr>
              <a:t>En  la  recolección,  tratamiento  y  circulación  de  datos  se  respetarán  la libertad y demás garantías consagradas en la Constitución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object 2"/>
          <p:cNvSpPr/>
          <p:nvPr/>
        </p:nvSpPr>
        <p:spPr>
          <a:xfrm>
            <a:off x="-685800" y="1371600"/>
            <a:ext cx="9509040" cy="310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58120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002b82"/>
                </a:solidFill>
                <a:latin typeface="Arial"/>
                <a:ea typeface="Arial"/>
              </a:rPr>
              <a:t>Objeto de la L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81200">
              <a:lnSpc>
                <a:spcPts val="848"/>
              </a:lnSpc>
              <a:spcBef>
                <a:spcPts val="26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81200">
              <a:lnSpc>
                <a:spcPts val="998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81200">
              <a:lnSpc>
                <a:spcPts val="998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81200" algn="just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2b82"/>
                </a:solidFill>
                <a:latin typeface="Arial"/>
                <a:ea typeface="Arial"/>
              </a:rPr>
              <a:t>“…</a:t>
            </a:r>
            <a:r>
              <a:rPr b="0" lang="es-CO" sz="2000" spc="-1" strike="noStrike">
                <a:solidFill>
                  <a:srgbClr val="002b82"/>
                </a:solidFill>
                <a:latin typeface="Arial"/>
                <a:ea typeface="Arial"/>
              </a:rPr>
              <a:t>. </a:t>
            </a:r>
            <a:r>
              <a:rPr b="0" i="1" lang="es-CO" sz="2000" spc="-1" strike="noStrike">
                <a:solidFill>
                  <a:srgbClr val="002b82"/>
                </a:solidFill>
                <a:latin typeface="Arial"/>
                <a:ea typeface="Arial"/>
              </a:rPr>
              <a:t>desarrollar el derecho constitucional que tiene todas   las   personas   a   </a:t>
            </a:r>
            <a:r>
              <a:rPr b="1" i="1" lang="es-CO" sz="2000" spc="-1" strike="noStrike">
                <a:solidFill>
                  <a:srgbClr val="002b82"/>
                </a:solidFill>
                <a:latin typeface="Arial"/>
                <a:ea typeface="Arial"/>
              </a:rPr>
              <a:t>conocer,   actualizar   y rectificar    </a:t>
            </a:r>
            <a:r>
              <a:rPr b="0" i="1" lang="es-CO" sz="2000" spc="-1" strike="noStrike">
                <a:solidFill>
                  <a:srgbClr val="002b82"/>
                </a:solidFill>
                <a:latin typeface="Arial"/>
                <a:ea typeface="Arial"/>
              </a:rPr>
              <a:t>las    informaciones    que    se    hayan recogido sobre ellas en bases de datos o archivos, y   los   demás   derechos,   libertades   y   garantías constitucionales a que se refiere el artículo 15 de la Constitución Política; así como el derecho a la información  consagrado  en  el  artículo  20  de  la misma</a:t>
            </a:r>
            <a:r>
              <a:rPr b="0" lang="es-CO" sz="2000" spc="-1" strike="noStrike">
                <a:solidFill>
                  <a:srgbClr val="002b82"/>
                </a:solidFill>
                <a:latin typeface="Arial"/>
                <a:ea typeface="Arial"/>
              </a:rPr>
              <a:t>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object 3"/>
          <p:cNvSpPr/>
          <p:nvPr/>
        </p:nvSpPr>
        <p:spPr>
          <a:xfrm>
            <a:off x="536400" y="6407280"/>
            <a:ext cx="5335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800" spc="-1" strike="noStrike">
                <a:solidFill>
                  <a:srgbClr val="ffffff"/>
                </a:solidFill>
                <a:latin typeface="Arial"/>
                <a:ea typeface="Arial"/>
              </a:rPr>
              <a:t>13/12/20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object 4"/>
          <p:cNvSpPr/>
          <p:nvPr/>
        </p:nvSpPr>
        <p:spPr>
          <a:xfrm>
            <a:off x="5689440" y="6407280"/>
            <a:ext cx="163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55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71C74-EBE3-48AC-A3B6-E966EFE254DA}" type="slidenum">
              <a:rPr b="0" lang="es-CO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object 2"/>
          <p:cNvSpPr/>
          <p:nvPr/>
        </p:nvSpPr>
        <p:spPr>
          <a:xfrm>
            <a:off x="-380880" y="2133720"/>
            <a:ext cx="9296280" cy="24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16540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002b82"/>
                </a:solidFill>
                <a:latin typeface="Arial"/>
                <a:ea typeface="Arial"/>
              </a:rPr>
              <a:t>Ámbito de aplic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5400">
              <a:lnSpc>
                <a:spcPts val="550"/>
              </a:lnSpc>
              <a:spcBef>
                <a:spcPts val="26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5400">
              <a:lnSpc>
                <a:spcPts val="998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5400">
              <a:lnSpc>
                <a:spcPts val="998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5400">
              <a:lnSpc>
                <a:spcPts val="998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5400">
              <a:lnSpc>
                <a:spcPts val="998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5400" algn="just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2b82"/>
                </a:solidFill>
                <a:latin typeface="Arial"/>
                <a:ea typeface="Arial"/>
              </a:rPr>
              <a:t>La ley se aplica al tratamiento de datos personales efectuado  por  entidades  </a:t>
            </a:r>
            <a:r>
              <a:rPr b="1" lang="es-CO" sz="2000" spc="-1" strike="noStrike">
                <a:solidFill>
                  <a:srgbClr val="002b82"/>
                </a:solidFill>
                <a:latin typeface="Arial"/>
                <a:ea typeface="Arial"/>
              </a:rPr>
              <a:t>públicas  o  privadas</a:t>
            </a:r>
            <a:r>
              <a:rPr b="0" lang="es-CO" sz="2000" spc="-1" strike="noStrike">
                <a:solidFill>
                  <a:srgbClr val="002b82"/>
                </a:solidFill>
                <a:latin typeface="Arial"/>
                <a:ea typeface="Arial"/>
              </a:rPr>
              <a:t>, dentro   del   país   o   cuando   el   Responsable   o Encargado no establecido en territorio nacional le sea  aplicable  la  legislación  colombiana  en  virtud de normas y tratados internaciona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object 3"/>
          <p:cNvSpPr/>
          <p:nvPr/>
        </p:nvSpPr>
        <p:spPr>
          <a:xfrm>
            <a:off x="536400" y="6407280"/>
            <a:ext cx="5335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800" spc="-1" strike="noStrike">
                <a:solidFill>
                  <a:srgbClr val="ffffff"/>
                </a:solidFill>
                <a:latin typeface="Arial"/>
                <a:ea typeface="Arial"/>
              </a:rPr>
              <a:t>13/12/20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object 4"/>
          <p:cNvSpPr/>
          <p:nvPr/>
        </p:nvSpPr>
        <p:spPr>
          <a:xfrm>
            <a:off x="5689440" y="6407280"/>
            <a:ext cx="163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55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1D41A-93C0-4449-B38C-D718E060481F}" type="slidenum">
              <a:rPr b="0" lang="es-CO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object 2"/>
          <p:cNvSpPr/>
          <p:nvPr/>
        </p:nvSpPr>
        <p:spPr>
          <a:xfrm>
            <a:off x="4278240" y="939960"/>
            <a:ext cx="2100240" cy="42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ts val="332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800" spc="-1" strike="noStrike">
                <a:solidFill>
                  <a:srgbClr val="002b82"/>
                </a:solidFill>
                <a:latin typeface="Arial"/>
                <a:ea typeface="Arial"/>
              </a:rPr>
              <a:t>Exclus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object 6"/>
          <p:cNvSpPr/>
          <p:nvPr/>
        </p:nvSpPr>
        <p:spPr>
          <a:xfrm>
            <a:off x="536400" y="6407280"/>
            <a:ext cx="53352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13/12/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object 7"/>
          <p:cNvSpPr/>
          <p:nvPr/>
        </p:nvSpPr>
        <p:spPr>
          <a:xfrm>
            <a:off x="5689440" y="6407280"/>
            <a:ext cx="163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55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A4BCC-F5BF-4D36-BD9A-87B0EA8D20AB}" type="slidenum">
              <a:rPr b="0" lang="es-CO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/>
          </p:nvPr>
        </p:nvSpPr>
        <p:spPr>
          <a:xfrm>
            <a:off x="1828800" y="1676160"/>
            <a:ext cx="6999120" cy="45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8440" indent="-285840" algn="just">
              <a:lnSpc>
                <a:spcPct val="100000"/>
              </a:lnSpc>
              <a:buClr>
                <a:srgbClr val="002b82"/>
              </a:buClr>
              <a:buFont typeface="Wingdings" charset="2"/>
              <a:buChar char=""/>
              <a:tabLst>
                <a:tab algn="l" pos="29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2b82"/>
                </a:solidFill>
                <a:latin typeface="Arial"/>
                <a:ea typeface="Arial"/>
              </a:rPr>
              <a:t>Bases  de  datos  o  archivos  mantenidos  en  un  ámbito exclusivamente personal o doméstic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8440" indent="0">
              <a:lnSpc>
                <a:spcPts val="550"/>
              </a:lnSpc>
              <a:spcBef>
                <a:spcPts val="26"/>
              </a:spcBef>
              <a:buNone/>
              <a:tabLst>
                <a:tab algn="l" pos="29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marL="298440" indent="-285840" algn="just">
              <a:lnSpc>
                <a:spcPct val="100000"/>
              </a:lnSpc>
              <a:buClr>
                <a:srgbClr val="002b82"/>
              </a:buClr>
              <a:buFont typeface="Wingdings" charset="2"/>
              <a:buChar char=""/>
              <a:tabLst>
                <a:tab algn="l" pos="29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2b82"/>
                </a:solidFill>
                <a:latin typeface="Arial"/>
                <a:ea typeface="Arial"/>
              </a:rPr>
              <a:t>Bases de datos que tienen por finalidad la seguridad y defensa nacional y la prevención y control del lavado de activos y financiamiento del terrorismo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8440" indent="0">
              <a:lnSpc>
                <a:spcPts val="550"/>
              </a:lnSpc>
              <a:spcBef>
                <a:spcPts val="26"/>
              </a:spcBef>
              <a:buNone/>
              <a:tabLst>
                <a:tab algn="l" pos="29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marL="298440" indent="-285840">
              <a:lnSpc>
                <a:spcPct val="100000"/>
              </a:lnSpc>
              <a:buClr>
                <a:srgbClr val="002b82"/>
              </a:buClr>
              <a:buFont typeface="Wingdings" charset="2"/>
              <a:buChar char=""/>
              <a:tabLst>
                <a:tab algn="l" pos="29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2b82"/>
                </a:solidFill>
                <a:latin typeface="Arial"/>
                <a:ea typeface="Arial"/>
              </a:rPr>
              <a:t>Bases de datos de inteligencia y contrainteligenci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8440" indent="0">
              <a:lnSpc>
                <a:spcPts val="550"/>
              </a:lnSpc>
              <a:spcBef>
                <a:spcPts val="26"/>
              </a:spcBef>
              <a:buNone/>
              <a:tabLst>
                <a:tab algn="l" pos="29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marL="298440" indent="-285840">
              <a:lnSpc>
                <a:spcPts val="2849"/>
              </a:lnSpc>
              <a:buClr>
                <a:srgbClr val="002b82"/>
              </a:buClr>
              <a:buFont typeface="Wingdings" charset="2"/>
              <a:buChar char=""/>
              <a:tabLst>
                <a:tab algn="l" pos="29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2b82"/>
                </a:solidFill>
                <a:latin typeface="Arial"/>
                <a:ea typeface="Arial"/>
              </a:rPr>
              <a:t>Bases</a:t>
            </a:r>
            <a:r>
              <a:rPr b="0" lang="es-CO" sz="2000" spc="-1" strike="noStrike">
                <a:solidFill>
                  <a:srgbClr val="002b82"/>
                </a:solidFill>
                <a:latin typeface="Arial"/>
                <a:ea typeface="Arial"/>
              </a:rPr>
              <a:t>	</a:t>
            </a:r>
            <a:r>
              <a:rPr b="0" lang="es-CO" sz="2000" spc="-1" strike="noStrike">
                <a:solidFill>
                  <a:srgbClr val="002b82"/>
                </a:solidFill>
                <a:latin typeface="Arial"/>
                <a:ea typeface="Arial"/>
              </a:rPr>
              <a:t>de</a:t>
            </a:r>
            <a:r>
              <a:rPr b="0" lang="es-CO" sz="2000" spc="-1" strike="noStrike">
                <a:solidFill>
                  <a:srgbClr val="002b82"/>
                </a:solidFill>
                <a:latin typeface="Arial"/>
                <a:ea typeface="Arial"/>
              </a:rPr>
              <a:t>	</a:t>
            </a:r>
            <a:r>
              <a:rPr b="0" lang="es-CO" sz="2000" spc="-1" strike="noStrike">
                <a:solidFill>
                  <a:srgbClr val="002b82"/>
                </a:solidFill>
                <a:latin typeface="Arial"/>
                <a:ea typeface="Arial"/>
              </a:rPr>
              <a:t>datos</a:t>
            </a:r>
            <a:r>
              <a:rPr b="0" lang="es-CO" sz="2000" spc="-1" strike="noStrike">
                <a:solidFill>
                  <a:srgbClr val="002b82"/>
                </a:solidFill>
                <a:latin typeface="Arial"/>
                <a:ea typeface="Arial"/>
              </a:rPr>
              <a:t>	</a:t>
            </a:r>
            <a:r>
              <a:rPr b="0" lang="es-CO" sz="2000" spc="-1" strike="noStrike">
                <a:solidFill>
                  <a:srgbClr val="002b82"/>
                </a:solidFill>
                <a:latin typeface="Arial"/>
                <a:ea typeface="Arial"/>
              </a:rPr>
              <a:t>y</a:t>
            </a:r>
            <a:r>
              <a:rPr b="0" lang="es-CO" sz="2000" spc="-1" strike="noStrike">
                <a:solidFill>
                  <a:srgbClr val="002b82"/>
                </a:solidFill>
                <a:latin typeface="Arial"/>
                <a:ea typeface="Arial"/>
              </a:rPr>
              <a:t>	</a:t>
            </a:r>
            <a:r>
              <a:rPr b="0" lang="es-CO" sz="2000" spc="-1" strike="noStrike">
                <a:solidFill>
                  <a:srgbClr val="002b82"/>
                </a:solidFill>
                <a:latin typeface="Arial"/>
                <a:ea typeface="Arial"/>
              </a:rPr>
              <a:t>archivos periodísticos y otr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8440" indent="0">
              <a:lnSpc>
                <a:spcPct val="100000"/>
              </a:lnSpc>
              <a:buNone/>
              <a:tabLst>
                <a:tab algn="l" pos="0"/>
                <a:tab algn="l" pos="29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2b82"/>
                </a:solidFill>
                <a:latin typeface="Arial"/>
                <a:ea typeface="Arial"/>
              </a:rPr>
              <a:t>contenidos editorial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8440" indent="0">
              <a:lnSpc>
                <a:spcPts val="550"/>
              </a:lnSpc>
              <a:spcBef>
                <a:spcPts val="26"/>
              </a:spcBef>
              <a:buNone/>
              <a:tabLst>
                <a:tab algn="l" pos="0"/>
                <a:tab algn="l" pos="29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marL="298440" indent="-285840">
              <a:lnSpc>
                <a:spcPct val="100000"/>
              </a:lnSpc>
              <a:buClr>
                <a:srgbClr val="002b82"/>
              </a:buClr>
              <a:buFont typeface="Wingdings" charset="2"/>
              <a:buChar char=""/>
              <a:tabLst>
                <a:tab algn="l" pos="29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2b82"/>
                </a:solidFill>
                <a:latin typeface="Arial"/>
                <a:ea typeface="Arial"/>
              </a:rPr>
              <a:t>Bases</a:t>
            </a:r>
            <a:r>
              <a:rPr b="0" lang="es-CO" sz="2000" spc="-1" strike="noStrike">
                <a:solidFill>
                  <a:srgbClr val="002b82"/>
                </a:solidFill>
                <a:latin typeface="Arial"/>
                <a:ea typeface="Arial"/>
              </a:rPr>
              <a:t>	</a:t>
            </a:r>
            <a:r>
              <a:rPr b="0" lang="es-CO" sz="2000" spc="-1" strike="noStrike">
                <a:solidFill>
                  <a:srgbClr val="002b82"/>
                </a:solidFill>
                <a:latin typeface="Arial"/>
                <a:ea typeface="Arial"/>
              </a:rPr>
              <a:t>de</a:t>
            </a:r>
            <a:r>
              <a:rPr b="0" lang="es-CO" sz="2000" spc="-1" strike="noStrike">
                <a:solidFill>
                  <a:srgbClr val="002b82"/>
                </a:solidFill>
                <a:latin typeface="Arial"/>
                <a:ea typeface="Arial"/>
              </a:rPr>
              <a:t>	</a:t>
            </a:r>
            <a:r>
              <a:rPr b="0" lang="es-CO" sz="2000" spc="-1" strike="noStrike">
                <a:solidFill>
                  <a:srgbClr val="002b82"/>
                </a:solidFill>
                <a:latin typeface="Arial"/>
                <a:ea typeface="Arial"/>
              </a:rPr>
              <a:t>datos</a:t>
            </a:r>
            <a:r>
              <a:rPr b="0" lang="es-CO" sz="2000" spc="-1" strike="noStrike">
                <a:solidFill>
                  <a:srgbClr val="002b82"/>
                </a:solidFill>
                <a:latin typeface="Arial"/>
                <a:ea typeface="Arial"/>
              </a:rPr>
              <a:t>	</a:t>
            </a:r>
            <a:r>
              <a:rPr b="0" lang="es-CO" sz="2000" spc="-1" strike="noStrike">
                <a:solidFill>
                  <a:srgbClr val="002b82"/>
                </a:solidFill>
                <a:latin typeface="Arial"/>
                <a:ea typeface="Arial"/>
              </a:rPr>
              <a:t>reguladas</a:t>
            </a:r>
            <a:r>
              <a:rPr b="0" lang="es-CO" sz="2000" spc="-1" strike="noStrike">
                <a:solidFill>
                  <a:srgbClr val="002b82"/>
                </a:solidFill>
                <a:latin typeface="Arial"/>
                <a:ea typeface="Arial"/>
              </a:rPr>
              <a:t>	</a:t>
            </a:r>
            <a:r>
              <a:rPr b="0" lang="es-CO" sz="2000" spc="-1" strike="noStrike">
                <a:solidFill>
                  <a:srgbClr val="002b82"/>
                </a:solidFill>
                <a:latin typeface="Arial"/>
                <a:ea typeface="Arial"/>
              </a:rPr>
              <a:t>por</a:t>
            </a:r>
            <a:r>
              <a:rPr b="0" lang="es-CO" sz="2000" spc="-1" strike="noStrike">
                <a:solidFill>
                  <a:srgbClr val="002b82"/>
                </a:solidFill>
                <a:latin typeface="Arial"/>
                <a:ea typeface="Arial"/>
              </a:rPr>
              <a:t>	</a:t>
            </a:r>
            <a:r>
              <a:rPr b="0" lang="es-CO" sz="2000" spc="-1" strike="noStrike">
                <a:solidFill>
                  <a:srgbClr val="002b82"/>
                </a:solidFill>
                <a:latin typeface="Arial"/>
                <a:ea typeface="Arial"/>
              </a:rPr>
              <a:t>la</a:t>
            </a:r>
            <a:r>
              <a:rPr b="0" lang="es-CO" sz="2000" spc="-1" strike="noStrike">
                <a:solidFill>
                  <a:srgbClr val="002b82"/>
                </a:solidFill>
                <a:latin typeface="Arial"/>
                <a:ea typeface="Arial"/>
              </a:rPr>
              <a:t>	</a:t>
            </a:r>
            <a:r>
              <a:rPr b="0" lang="es-CO" sz="2000" spc="-1" strike="noStrike">
                <a:solidFill>
                  <a:srgbClr val="002b82"/>
                </a:solidFill>
                <a:latin typeface="Arial"/>
                <a:ea typeface="Arial"/>
              </a:rPr>
              <a:t>ley</a:t>
            </a:r>
            <a:r>
              <a:rPr b="0" lang="es-CO" sz="2000" spc="-1" strike="noStrike">
                <a:solidFill>
                  <a:srgbClr val="002b82"/>
                </a:solidFill>
                <a:latin typeface="Arial"/>
                <a:ea typeface="Arial"/>
              </a:rPr>
              <a:t>	</a:t>
            </a:r>
            <a:r>
              <a:rPr b="0" lang="es-CO" sz="2000" spc="-1" strike="noStrike">
                <a:solidFill>
                  <a:srgbClr val="002b82"/>
                </a:solidFill>
                <a:latin typeface="Arial"/>
                <a:ea typeface="Arial"/>
              </a:rPr>
              <a:t>1266 de 2008 (datos financieros – crediticios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8440" indent="0">
              <a:lnSpc>
                <a:spcPts val="550"/>
              </a:lnSpc>
              <a:spcBef>
                <a:spcPts val="26"/>
              </a:spcBef>
              <a:buNone/>
              <a:tabLst>
                <a:tab algn="l" pos="0"/>
                <a:tab algn="l" pos="29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marL="298440" indent="-285840">
              <a:lnSpc>
                <a:spcPct val="100000"/>
              </a:lnSpc>
              <a:buClr>
                <a:srgbClr val="002b82"/>
              </a:buClr>
              <a:buFont typeface="Wingdings" charset="2"/>
              <a:buChar char=""/>
              <a:tabLst>
                <a:tab algn="l" pos="29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2b82"/>
                </a:solidFill>
                <a:latin typeface="Arial"/>
                <a:ea typeface="Arial"/>
              </a:rPr>
              <a:t>Bases de datos del DANE (Ley 79 de 1993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8440" indent="0">
              <a:lnSpc>
                <a:spcPts val="2849"/>
              </a:lnSpc>
              <a:buNone/>
              <a:tabLst>
                <a:tab algn="l" pos="29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object 2"/>
          <p:cNvSpPr/>
          <p:nvPr/>
        </p:nvSpPr>
        <p:spPr>
          <a:xfrm>
            <a:off x="4070520" y="727200"/>
            <a:ext cx="21366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800" spc="-1" strike="noStrike">
                <a:solidFill>
                  <a:srgbClr val="002b82"/>
                </a:solidFill>
                <a:latin typeface="Arial"/>
                <a:ea typeface="Arial"/>
              </a:rPr>
              <a:t>Defini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object 8"/>
          <p:cNvSpPr/>
          <p:nvPr/>
        </p:nvSpPr>
        <p:spPr>
          <a:xfrm>
            <a:off x="536400" y="6407280"/>
            <a:ext cx="53352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13/12/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object 9"/>
          <p:cNvSpPr/>
          <p:nvPr/>
        </p:nvSpPr>
        <p:spPr>
          <a:xfrm>
            <a:off x="5689440" y="6407280"/>
            <a:ext cx="163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55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89B95-F84D-45C7-8789-D5456102F4F2}" type="slidenum">
              <a:rPr b="0" lang="es-CO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object 7"/>
          <p:cNvSpPr/>
          <p:nvPr/>
        </p:nvSpPr>
        <p:spPr>
          <a:xfrm>
            <a:off x="1676520" y="1447920"/>
            <a:ext cx="6924600" cy="46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71440" indent="-271440" algn="just">
              <a:buClr>
                <a:srgbClr val="002b8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2b82"/>
                </a:solidFill>
                <a:latin typeface="Arial"/>
                <a:ea typeface="Arial"/>
              </a:rPr>
              <a:t>Dato personal: </a:t>
            </a:r>
            <a:r>
              <a:rPr b="0" lang="es-CO" sz="1800" spc="-1" strike="noStrike">
                <a:solidFill>
                  <a:srgbClr val="002b82"/>
                </a:solidFill>
                <a:latin typeface="Arial"/>
                <a:ea typeface="Arial"/>
              </a:rPr>
              <a:t>Cualquier información vinculada o que pueda asociarse  a  una  o  varias  personas  determinadas  o  determinable (dato  público,  dato  semi-privado,  dato  privado  y  dato     privado sensib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 algn="just">
              <a:spcBef>
                <a:spcPts val="476"/>
              </a:spcBef>
              <a:buClr>
                <a:srgbClr val="002b8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2b82"/>
                </a:solidFill>
                <a:latin typeface="Arial"/>
                <a:ea typeface="Arial"/>
              </a:rPr>
              <a:t>Responsable del tratamiento: </a:t>
            </a:r>
            <a:r>
              <a:rPr b="0" lang="es-CO" sz="1800" spc="-1" strike="noStrike">
                <a:solidFill>
                  <a:srgbClr val="002b82"/>
                </a:solidFill>
                <a:latin typeface="Arial"/>
                <a:ea typeface="Arial"/>
              </a:rPr>
              <a:t>Persona natural o jurídica, pública o privada,  que  por  sí  misma  o  en  asocio  con  otros,  decida  sobre  la base de datos y/o el tratamiento de los dat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 algn="just">
              <a:spcBef>
                <a:spcPts val="476"/>
              </a:spcBef>
              <a:buClr>
                <a:srgbClr val="002b8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2b82"/>
                </a:solidFill>
                <a:latin typeface="Arial"/>
                <a:ea typeface="Arial"/>
              </a:rPr>
              <a:t>Encargado  del  tratamiento:  </a:t>
            </a:r>
            <a:r>
              <a:rPr b="0" lang="es-CO" sz="1800" spc="-1" strike="noStrike">
                <a:solidFill>
                  <a:srgbClr val="002b82"/>
                </a:solidFill>
                <a:latin typeface="Arial"/>
                <a:ea typeface="Arial"/>
              </a:rPr>
              <a:t>Persona  natural  o  jurídica,  pública  o privada,   que   por   sí  misma   o   en   asocio   con   otros,   realicé   el tratamiento  de  datos  personales  por  cuenta  del  responsable  del tratamien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 algn="just">
              <a:spcBef>
                <a:spcPts val="476"/>
              </a:spcBef>
              <a:buClr>
                <a:srgbClr val="002b8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2b82"/>
                </a:solidFill>
                <a:latin typeface="Arial"/>
                <a:ea typeface="Arial"/>
              </a:rPr>
              <a:t>Titular:  </a:t>
            </a:r>
            <a:r>
              <a:rPr b="0" lang="es-CO" sz="1800" spc="-1" strike="noStrike">
                <a:solidFill>
                  <a:srgbClr val="002b82"/>
                </a:solidFill>
                <a:latin typeface="Arial"/>
                <a:ea typeface="Arial"/>
              </a:rPr>
              <a:t>Persona  natural  cuyos  datos  personales  sean  objeto  de tratamien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 algn="just">
              <a:spcBef>
                <a:spcPts val="488"/>
              </a:spcBef>
              <a:buClr>
                <a:srgbClr val="002b8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2b82"/>
                </a:solidFill>
                <a:latin typeface="Arial"/>
                <a:ea typeface="Arial"/>
              </a:rPr>
              <a:t>Tratamiento: </a:t>
            </a:r>
            <a:r>
              <a:rPr b="0" lang="es-CO" sz="1800" spc="-1" strike="noStrike">
                <a:solidFill>
                  <a:srgbClr val="002b82"/>
                </a:solidFill>
                <a:latin typeface="Arial"/>
                <a:ea typeface="Arial"/>
              </a:rPr>
              <a:t>Cualquier operación o conjunto de operaciones sobre datos personales, tales como la recolección, almacenamiento, uso, circulación o supresión</a:t>
            </a:r>
            <a:r>
              <a:rPr b="0" lang="es-CO" sz="2000" spc="-1" strike="noStrike">
                <a:solidFill>
                  <a:srgbClr val="002b82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object 2"/>
          <p:cNvSpPr/>
          <p:nvPr/>
        </p:nvSpPr>
        <p:spPr>
          <a:xfrm>
            <a:off x="2514600" y="3048120"/>
            <a:ext cx="56516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tabLst>
                <a:tab algn="l" pos="0"/>
                <a:tab algn="l" pos="698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4000" spc="-1" strike="noStrike">
                <a:solidFill>
                  <a:srgbClr val="001f5f"/>
                </a:solidFill>
                <a:latin typeface="Arial"/>
                <a:ea typeface="Arial"/>
              </a:rPr>
              <a:t>2.</a:t>
            </a:r>
            <a:r>
              <a:rPr b="1" lang="es-CO" sz="4000" spc="-1" strike="noStrike">
                <a:solidFill>
                  <a:srgbClr val="001f5f"/>
                </a:solidFill>
                <a:latin typeface="Arial"/>
                <a:ea typeface="Arial"/>
              </a:rPr>
              <a:t>	</a:t>
            </a:r>
            <a:r>
              <a:rPr b="1" lang="es-CO" sz="4000" spc="-1" strike="noStrike">
                <a:solidFill>
                  <a:srgbClr val="001f5f"/>
                </a:solidFill>
                <a:latin typeface="Arial"/>
                <a:ea typeface="Arial"/>
              </a:rPr>
              <a:t>Aspectos relevan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object 3"/>
          <p:cNvSpPr/>
          <p:nvPr/>
        </p:nvSpPr>
        <p:spPr>
          <a:xfrm>
            <a:off x="536400" y="6407280"/>
            <a:ext cx="5335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800" spc="-1" strike="noStrike">
                <a:solidFill>
                  <a:srgbClr val="ffffff"/>
                </a:solidFill>
                <a:latin typeface="Arial"/>
                <a:ea typeface="Arial"/>
              </a:rPr>
              <a:t>13/12/20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object 4"/>
          <p:cNvSpPr/>
          <p:nvPr/>
        </p:nvSpPr>
        <p:spPr>
          <a:xfrm>
            <a:off x="5689440" y="6407280"/>
            <a:ext cx="163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55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D77C3-0146-4D87-A943-9DDBAB7F8887}" type="slidenum">
              <a:rPr b="0" lang="es-CO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object 2"/>
          <p:cNvSpPr/>
          <p:nvPr/>
        </p:nvSpPr>
        <p:spPr>
          <a:xfrm>
            <a:off x="4419720" y="838080"/>
            <a:ext cx="17431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800" spc="-1" strike="noStrike">
                <a:solidFill>
                  <a:srgbClr val="002b82"/>
                </a:solidFill>
                <a:latin typeface="Arial"/>
                <a:ea typeface="Arial"/>
              </a:rPr>
              <a:t>Princip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object 4"/>
          <p:cNvSpPr/>
          <p:nvPr/>
        </p:nvSpPr>
        <p:spPr>
          <a:xfrm>
            <a:off x="536400" y="6407280"/>
            <a:ext cx="5335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800" spc="-1" strike="noStrike">
                <a:solidFill>
                  <a:srgbClr val="ffffff"/>
                </a:solidFill>
                <a:latin typeface="Arial"/>
                <a:ea typeface="Arial"/>
              </a:rPr>
              <a:t>13/12/20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object 5"/>
          <p:cNvSpPr/>
          <p:nvPr/>
        </p:nvSpPr>
        <p:spPr>
          <a:xfrm>
            <a:off x="5689440" y="6407280"/>
            <a:ext cx="163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55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95A2D-784B-4A38-AD12-9530F4B0307E}" type="slidenum">
              <a:rPr b="0" lang="es-CO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8" name=""/>
          <p:cNvGraphicFramePr/>
          <p:nvPr/>
        </p:nvGraphicFramePr>
        <p:xfrm>
          <a:off x="1752480" y="1676520"/>
          <a:ext cx="7162920" cy="4303440"/>
        </p:xfrm>
        <a:graphic>
          <a:graphicData uri="http://schemas.openxmlformats.org/drawingml/2006/table">
            <a:tbl>
              <a:tblPr/>
              <a:tblGrid>
                <a:gridCol w="3581640"/>
                <a:gridCol w="3581280"/>
              </a:tblGrid>
              <a:tr h="610920">
                <a:tc>
                  <a:txBody>
                    <a:bodyPr lIns="0" rIns="0" tIns="0" bIns="0" anchor="t">
                      <a:noAutofit/>
                    </a:bodyPr>
                    <a:p>
                      <a:pPr marL="842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Ley 1581 de 20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856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Ley 1266 de 20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c"/>
                    </a:solidFill>
                  </a:tcPr>
                </a:tc>
              </a:tr>
              <a:tr h="349560">
                <a:tc>
                  <a:txBody>
                    <a:bodyPr lIns="0" rIns="0" tIns="0" bIns="0" anchor="t">
                      <a:noAutofit/>
                    </a:bodyPr>
                    <a:p>
                      <a:pPr marL="842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400" spc="-1" strike="noStrike">
                          <a:solidFill>
                            <a:srgbClr val="1f487c"/>
                          </a:solidFill>
                          <a:latin typeface="Arial"/>
                          <a:ea typeface="Arial"/>
                        </a:rPr>
                        <a:t>Veracidad o calida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7e8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856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400" spc="-1" strike="noStrike">
                          <a:solidFill>
                            <a:srgbClr val="1f487c"/>
                          </a:solidFill>
                          <a:latin typeface="Arial"/>
                          <a:ea typeface="Arial"/>
                        </a:rPr>
                        <a:t>Veracidad o calida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7e8"/>
                    </a:solidFill>
                  </a:tcPr>
                </a:tc>
              </a:tr>
              <a:tr h="347400">
                <a:tc>
                  <a:txBody>
                    <a:bodyPr lIns="0" rIns="0" tIns="0" bIns="0" anchor="t">
                      <a:noAutofit/>
                    </a:bodyPr>
                    <a:p>
                      <a:pPr marL="842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400" spc="-1" strike="noStrike">
                          <a:solidFill>
                            <a:srgbClr val="1f487c"/>
                          </a:solidFill>
                          <a:latin typeface="Arial"/>
                          <a:ea typeface="Arial"/>
                        </a:rPr>
                        <a:t>Finalida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cf4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856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400" spc="-1" strike="noStrike">
                          <a:solidFill>
                            <a:srgbClr val="1f487c"/>
                          </a:solidFill>
                          <a:latin typeface="Arial"/>
                          <a:ea typeface="Arial"/>
                        </a:rPr>
                        <a:t>Finalida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cf4"/>
                    </a:solidFill>
                  </a:tcPr>
                </a:tc>
              </a:tr>
              <a:tr h="349200">
                <a:tc>
                  <a:txBody>
                    <a:bodyPr lIns="0" rIns="0" tIns="0" bIns="0" anchor="t">
                      <a:noAutofit/>
                    </a:bodyPr>
                    <a:p>
                      <a:pPr marL="842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400" spc="-1" strike="noStrike">
                          <a:solidFill>
                            <a:srgbClr val="1f487c"/>
                          </a:solidFill>
                          <a:latin typeface="Arial"/>
                          <a:ea typeface="Arial"/>
                        </a:rPr>
                        <a:t>Acceso y circulación restringid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7e8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856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400" spc="-1" strike="noStrike">
                          <a:solidFill>
                            <a:srgbClr val="1f487c"/>
                          </a:solidFill>
                          <a:latin typeface="Arial"/>
                          <a:ea typeface="Arial"/>
                        </a:rPr>
                        <a:t>Circulación restringid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7e8"/>
                    </a:solidFill>
                  </a:tcPr>
                </a:tc>
              </a:tr>
              <a:tr h="349560">
                <a:tc>
                  <a:txBody>
                    <a:bodyPr lIns="0" rIns="0" tIns="0" bIns="0" anchor="t">
                      <a:noAutofit/>
                    </a:bodyPr>
                    <a:p>
                      <a:pPr marL="842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400" spc="-1" strike="noStrike">
                          <a:solidFill>
                            <a:srgbClr val="1f487c"/>
                          </a:solidFill>
                          <a:latin typeface="Arial"/>
                          <a:ea typeface="Arial"/>
                        </a:rPr>
                        <a:t>Segurida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cf4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856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400" spc="-1" strike="noStrike">
                          <a:solidFill>
                            <a:srgbClr val="1f487c"/>
                          </a:solidFill>
                          <a:latin typeface="Arial"/>
                          <a:ea typeface="Arial"/>
                        </a:rPr>
                        <a:t>Segurida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cf4"/>
                    </a:solidFill>
                  </a:tcPr>
                </a:tc>
              </a:tr>
              <a:tr h="349200">
                <a:tc>
                  <a:txBody>
                    <a:bodyPr lIns="0" rIns="0" tIns="0" bIns="0" anchor="t">
                      <a:noAutofit/>
                    </a:bodyPr>
                    <a:p>
                      <a:pPr marL="842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400" spc="-1" strike="noStrike">
                          <a:solidFill>
                            <a:srgbClr val="1f487c"/>
                          </a:solidFill>
                          <a:latin typeface="Arial"/>
                          <a:ea typeface="Arial"/>
                        </a:rPr>
                        <a:t>Confidencialida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7e8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856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400" spc="-1" strike="noStrike">
                          <a:solidFill>
                            <a:srgbClr val="1f487c"/>
                          </a:solidFill>
                          <a:latin typeface="Arial"/>
                          <a:ea typeface="Arial"/>
                        </a:rPr>
                        <a:t>Confidencialida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7e8"/>
                    </a:solidFill>
                  </a:tcPr>
                </a:tc>
              </a:tr>
              <a:tr h="517320">
                <a:tc>
                  <a:txBody>
                    <a:bodyPr lIns="0" rIns="0" tIns="0" bIns="0" anchor="t">
                      <a:noAutofit/>
                    </a:bodyPr>
                    <a:p>
                      <a:pPr marL="842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400" spc="-1" strike="noStrike">
                          <a:solidFill>
                            <a:srgbClr val="1f487c"/>
                          </a:solidFill>
                          <a:latin typeface="Arial"/>
                          <a:ea typeface="Arial"/>
                        </a:rPr>
                        <a:t>Transparenc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cf4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856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400" spc="-1" strike="noStrike">
                          <a:solidFill>
                            <a:srgbClr val="1f487c"/>
                          </a:solidFill>
                          <a:latin typeface="Arial"/>
                          <a:ea typeface="Arial"/>
                        </a:rPr>
                        <a:t>Temporalida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cf4"/>
                    </a:solidFill>
                  </a:tcPr>
                </a:tc>
              </a:tr>
              <a:tr h="731880">
                <a:tc>
                  <a:txBody>
                    <a:bodyPr lIns="0" rIns="0" tIns="0" bIns="0" anchor="t">
                      <a:noAutofit/>
                    </a:bodyPr>
                    <a:p>
                      <a:pPr marL="842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400" spc="-1" strike="noStrike">
                          <a:solidFill>
                            <a:srgbClr val="1f487c"/>
                          </a:solidFill>
                          <a:latin typeface="Arial"/>
                          <a:ea typeface="Arial"/>
                        </a:rPr>
                        <a:t>Legalida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7e8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856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400" spc="-1" strike="noStrike">
                          <a:solidFill>
                            <a:srgbClr val="1f487c"/>
                          </a:solidFill>
                          <a:latin typeface="Arial"/>
                          <a:ea typeface="Arial"/>
                        </a:rPr>
                        <a:t>Interpretación integral de derech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56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400" spc="-1" strike="noStrike">
                          <a:solidFill>
                            <a:srgbClr val="1f487c"/>
                          </a:solidFill>
                          <a:latin typeface="Arial"/>
                          <a:ea typeface="Arial"/>
                        </a:rPr>
                        <a:t>constitucional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7e8"/>
                    </a:solidFill>
                  </a:tcPr>
                </a:tc>
              </a:tr>
              <a:tr h="349200">
                <a:tc>
                  <a:txBody>
                    <a:bodyPr lIns="0" rIns="0" tIns="0" bIns="0" anchor="t">
                      <a:noAutofit/>
                    </a:bodyPr>
                    <a:p>
                      <a:pPr marL="842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400" spc="-1" strike="noStrike">
                          <a:solidFill>
                            <a:srgbClr val="1f487c"/>
                          </a:solidFill>
                          <a:latin typeface="Arial"/>
                          <a:ea typeface="Arial"/>
                        </a:rPr>
                        <a:t>Liberta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cf4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cf4"/>
                    </a:solidFill>
                  </a:tcPr>
                </a:tc>
              </a:tr>
              <a:tr h="3492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7e8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7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0T20:48:13Z</dcterms:created>
  <dc:creator>Maria Claudia Caviedes Mejia</dc:creator>
  <dc:description/>
  <dc:language>en-US</dc:language>
  <cp:lastModifiedBy>Maria Fda. Leon</cp:lastModifiedBy>
  <dcterms:modified xsi:type="dcterms:W3CDTF">2013-08-23T15:29:20Z</dcterms:modified>
  <cp:revision>16</cp:revision>
  <dc:subject/>
  <dc:title>Presentación de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reated">
    <vt:filetime>2012-12-13T00:00:00Z</vt:filetime>
  </property>
  <property fmtid="{D5CDD505-2E9C-101B-9397-08002B2CF9AE}" pid="3" name="LastSaved">
    <vt:filetime>2013-08-21T00:00:00Z</vt:filetime>
  </property>
</Properties>
</file>